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565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435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972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848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2400" y="228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848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2400" y="4355640"/>
            <a:ext cx="2698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066680"/>
            <a:ext cx="86216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9720" y="435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974160"/>
            <a:ext cx="8621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9720" y="2285640"/>
            <a:ext cx="40903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4355640"/>
            <a:ext cx="8381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468760" y="0"/>
            <a:ext cx="3598920" cy="932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09520" y="596880"/>
            <a:ext cx="27306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32448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bteilung für Bioinformatik, JKU Li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22860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Praktikum aus Softwareentwicklung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Wintersemester 2006/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4572000"/>
            <a:ext cx="5181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exander So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ail: alexander.sommer@tiscover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Übungen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Zeit für Übungsausarbeitung: 2 Woch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Abgabe der Übung erfolgt elektronisch via E-Mail an java-tutor@ifs.uni-linz.ac.at (Details siehe erste Übu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Rückgabe ebenfalls elektronis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Übungsangaben, Präsentationen siehe Praktikums-Webse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Beurteilu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ndpunkteanzahl entspricht Durchschnitt aus den besten 4 Übunge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ndnote: </a:t>
            </a: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2/3 Übungen, 1/3 Projekt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aber sowohl Übungen als auch Projekt muss Positiv sein. (Bei Projekt: Fristen eingehalt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Keine Schriftliche Prüfu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Arbeitsumgebu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ntwicklungsumgebung ihrer Wah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JDK 1.4, 1.5 (netBeans ID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ttp://www.javasoft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Relationale Datenbank mit JDBC Trei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sql Database Engine http://hsqldb.sourceforge.net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ySQL http://gd.tuwien.ac.at/db/mysql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ervlet/JSP-Eng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Jakarta Tomcat 4.x, 5.x (ist bei netBeans IDE dabe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ttp://jakarta.apache.org/tomcat/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Kommunik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Alexander Somm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alexander.sommer@tiscover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prechstunde nach Vereinbar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Tu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Java-tutor@ifs.uni-linz.ac.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Verdana"/>
              </a:rPr>
              <a:t>Aktuelle Informationen und Unterla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http://www.bioinf.jku.at/teaching/ws2006/pr-swe2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Vorstellung / Tiscov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2 Jahre Forschungsassistent am F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Seit 2000 bei Tiscover 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Tiscover A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http://www.tiscover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estination Manag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Java Applikationen – Oracle Datenba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Jsp, Servlets, EJB, Topli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inux, Oracle Application 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Was macht Tiscover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E-Marketing im Tourismus, mit Softwareentwicklu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ww.tiscover.com/at/de/it/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ww.tiscover.co.uk/z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ww.italia.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ww.urlaubambauernhof.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ww.austria.inf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ww.tirol.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ww.visitscotland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Vertiefung bestehender Java Kenntnis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Java on the Server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Teamarbeit in einem Programmierprojek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Tipps und Tricks aus der Pr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Ziele des Praktikums – Motivation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Ziele des Praktikums – Motivation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Grundlegende Java Bibliothe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Netzwerkprogrammieru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Web-Programmieru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Tes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Datenbankanbindu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Vorkenntniss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Vorkenntnisse werden benötigt i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OO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Java (Syntax, Grundkenntnisse, kompilieren und ausführ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Q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Ablauf, Anwesenheitspflich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Mo 9.10.2006 17:15-20:30, UC 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Fr 3.11.2006, 13:45-20:30, T10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Fr 1.12.2006, 13:45-20:30, T1010 </a:t>
            </a: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Anwesenheitspflicht bei Projekttermi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ttp://www.bioinf.jku.at/teaching/ws2006/pr-swe2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orum im Ku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Keine Abmeldung mögli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Inhal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81480" y="4876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1600200"/>
          <a:ext cx="8686440" cy="5025960"/>
        </p:xfrm>
        <a:graphic>
          <a:graphicData uri="http://schemas.openxmlformats.org/drawingml/2006/table">
            <a:tbl>
              <a:tblPr/>
              <a:tblGrid>
                <a:gridCol w="6949440"/>
                <a:gridCol w="1737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rbesprechung, Grundlegende Bibliothe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8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tzwerkprogramm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DK 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DB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va Servl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kt Begi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ava Server Pages / J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b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reads - Tu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erveter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066680"/>
            <a:ext cx="862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Übungen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8 Übungsaufgaben unterteilt in 2 Bereiche (Übung 1-4 = Bereich Grundlagen)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(Übung 5-8 = Bereich We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Aus jedem Bereich müssen jeweils 2 Übung abgegeben wer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Eine Übung gilt als abgegeben wenn die Hälfte der Punkte erreicht worden is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un Java Coding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7:28:52Z</dcterms:created>
  <dc:creator>Tiscover</dc:creator>
  <dc:description/>
  <dc:language>en-US</dc:language>
  <cp:lastModifiedBy>Alexander Sommer</cp:lastModifiedBy>
  <dcterms:modified xsi:type="dcterms:W3CDTF">2006-10-09T14:30:53Z</dcterms:modified>
  <cp:revision>49</cp:revision>
  <dc:subject/>
  <dc:title>PowerPoint-Präsentation</dc:title>
</cp:coreProperties>
</file>