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17520" y="6299280"/>
            <a:ext cx="45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73520" y="6299280"/>
            <a:ext cx="408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2B7-CCEB-4ACF-B325-F6D54C911145}" type="slidenum">
              <a:rPr b="0" lang="en-U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Verdana"/>
              </a:rPr>
              <a:t>Grundlegende Java Bibliothek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276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 OutputStre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1200" y="1428840"/>
            <a:ext cx="6791400" cy="4992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464600" y="1908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54880" y="2378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75160" y="1903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5240" y="23702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66880" y="1900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54280" y="281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51040" y="3751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7080" y="4767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26400" y="42307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7800" y="38178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15440" y="19191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wendung von Streams (1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i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erden auf Arrays definie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ArrayReader / CharArray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yteArrayInputStream / ByteArray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peziell für String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tringReader / String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tringBufferInputStream / -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Zur Synchronisierung zwischen Threa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ipedReader / Piped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ipedInputStream / Piped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wendung von Streams (2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ileReader / File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ileInputStream / File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kate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Führt mehrere InputStreams zu einem einzigen zusam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--- / Sequence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bjektserialis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z.B. verwendet, wenn Objekt über das Netzwerk transportiert wi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ObjectInputStream / Object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wendung von Streams (3/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konver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rimitive Datentypen in maschinen-unabhängigem Format Lesen bzw. Schreib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ataInputStream / Data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eibfunktionalität für alle Datenty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--- / Print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--- / Prin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nvertierung zwischen Bytes und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putStreamR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OutputStream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Lesen von der Konso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272880" y="2079720"/>
            <a:ext cx="8871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class Test extends Object {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final static int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s = 6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 [] argv) throws 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byte [] buffer = new byte[bs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res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Enter chars (up to " + buffer.length + "):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s = System.i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buffer, 0, buffer.leng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s = new String(buff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"You entered \"" + s +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"\" and " + res + " bytes were read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157720"/>
            <a:ext cx="46800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rebuchet MS"/>
              </a:rPr>
              <a:t>Ausga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Enter chars (up to 6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1234567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You entered "123456" and 6 bytes were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putSt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3040" y="1988640"/>
            <a:ext cx="89409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esefunktionalität basierend auf dem Typ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Courier New"/>
              </a:rPr>
              <a:t>byt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bstract class InputStream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InputStream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int available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void close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void mark(int readlimit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boolean markSupported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abstract int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int read(byte[] b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int read(byte[] b, int off, int len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void reset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long skip(int n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esefunktionalität basierend auf dem Typ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char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tract class java.io.Reader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rotected Reader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rotected Reader(Object lock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clos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mark(int readAheadLimit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boolean markSupported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int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int read(char[] cbuf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int read(char[] cbuf, int off, int le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reset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long skip(long 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utputStr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eibfunktionalität basierend auf dem Typ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tract class java.io.OutputStream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OutputStream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clos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byte[] b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write(byte[] b, int off, int le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abstract void write(int b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write(int b) werden die 8 niederwertigsten Bits zur Darstellung des Bytes verwendet; die 24 höherwertigen Bits werden ignor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sp.: write(24272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schrieben wird "208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694520" y="579132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011110110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1480" y="575316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</a:rPr>
              <a:t>101111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10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1200" y="1951200"/>
            <a:ext cx="86868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eibfunktionalität basierend auf dem Typ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bstract class java.io.Writer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rotected Writer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rotected Writer(Object lock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abstract void close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abstract void flush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char[] cbuf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abstract void write(char[] cbuf, int off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                     int le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write(int c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write(String str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public void write(String str, int off, int le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134040" y="4605480"/>
            <a:ext cx="2567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</a:rPr>
              <a:t>Niederwertige 16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</a:rPr>
              <a:t>höherwertige 16 bit ignori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527360" y="4695840"/>
            <a:ext cx="154908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izugriff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Characters sequentiell aus einer Datei lese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+-- java.io.Rea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+-- java.io.InputStreamRea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+-- java.io.FileRea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eam wird erzeugt aus einem String, einem File-Objekt oder einem FileDescriptor-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8859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4600" y="71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 Java-Bibliothe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-/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-IO, Streams, Files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ch in Zusammenhang mit I/O (z.B.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ei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haracter (En)Co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lection-Mechanismus, dynamisches La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n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ynamisch erweiterbare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izugriff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196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leWrit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In eine Datei schreibe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+-- java.io.Wri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+-- java.io.InputStreamWri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|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+-- java.io.FileWri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RandomAccessFil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Positionieren in Dateien; Art des Zugriffs wird beim Öffnen festgeleg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r, w, r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581800"/>
            <a:ext cx="41050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rebuchet MS"/>
              </a:rPr>
              <a:t>ACHTUNG:</a:t>
            </a:r>
            <a:r>
              <a:rPr b="0" lang="de-DE" sz="1400" spc="-1" strike="noStrike">
                <a:solidFill>
                  <a:srgbClr val="000000"/>
                </a:solidFill>
                <a:latin typeface="Trebuchet MS"/>
              </a:rPr>
              <a:t> Keine Subklasse von InputStream oder OutputStream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Textdatei kop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463680" y="2079720"/>
            <a:ext cx="79437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class Cop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IO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 inputFile = new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"input.tx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 outputFile = new File("output.txt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Reader in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w FileReader(inputFi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Writer out = new FileWriter(outputFi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hile ((c = i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)) !=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GIF-Bild kop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63680" y="2079720"/>
            <a:ext cx="79437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class CopyByte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static void main(String[] args) throws IO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 inputFile = new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"in.gif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 outputFile = new File("out.gif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InputStream in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w FileInputStream(inputFi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outputFi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hile ((c = i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)) !=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chachtelung von Str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1200" y="1989000"/>
            <a:ext cx="890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mbination der Funktionalität verschiedener Stream-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sp.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lterInputStrea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Kombination durch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Konstruktorverschachte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 FilterInputStream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new FilterInputStream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new FilterInputStream(…)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xtuelle Darstellung von Daten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ytekodierung von Daten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Inpu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a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ufferung für mehr Performanz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ufferedInputStrea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ufferedOutput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sp: Datei le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s soll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ypspezifisch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puffer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von einer Datei gelesen werden: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DataInputStream din =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new DataInputStream 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new BufferedInputStream 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new FileInputStream 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&lt;File&gt;), 256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t nr = din.readInt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 code =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din.readUTF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208400" y="5373720"/>
            <a:ext cx="1727280" cy="360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ataInput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7840" y="4581360"/>
            <a:ext cx="2016000" cy="360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ufferedInput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2760" y="3789360"/>
            <a:ext cx="1727280" cy="360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ileInput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24000" y="3355920"/>
            <a:ext cx="34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73840" y="29242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900680" y="5427000"/>
            <a:ext cx="720360" cy="7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5" y="64"/>
                </a:moveTo>
                <a:arcTo wR="10800" hR="10800" stAng="-5025189" swAng="5025189"/>
                <a:lnTo>
                  <a:pt x="10800" y="10800"/>
                </a:lnTo>
                <a:close/>
              </a:path>
              <a:path fill="none" w="21600" h="21600">
                <a:moveTo>
                  <a:pt x="11975" y="64"/>
                </a:moveTo>
                <a:arcTo wR="10800" hR="10800" stAng="-5025189" swAng="502518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95840" y="5908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76760" y="4627440"/>
            <a:ext cx="720360" cy="7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5" y="64"/>
                </a:moveTo>
                <a:arcTo wR="10800" hR="10800" stAng="-5025189" swAng="5025189"/>
                <a:lnTo>
                  <a:pt x="10800" y="10800"/>
                </a:lnTo>
                <a:close/>
              </a:path>
              <a:path fill="none" w="21600" h="21600">
                <a:moveTo>
                  <a:pt x="11975" y="64"/>
                </a:moveTo>
                <a:arcTo wR="10800" hR="10800" stAng="-5025189" swAng="502518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71560" y="5108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ad 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3834720"/>
            <a:ext cx="720360" cy="71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5" y="64"/>
                </a:moveTo>
                <a:arcTo wR="10800" hR="10800" stAng="-5025189" swAng="5025189"/>
                <a:lnTo>
                  <a:pt x="10800" y="10800"/>
                </a:lnTo>
                <a:close/>
              </a:path>
              <a:path fill="none" w="21600" h="21600">
                <a:moveTo>
                  <a:pt x="11975" y="64"/>
                </a:moveTo>
                <a:arcTo wR="10800" hR="10800" stAng="-5025189" swAng="502518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48960" y="4316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read(buff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167600" y="3070080"/>
            <a:ext cx="720360" cy="7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5" y="64"/>
                </a:moveTo>
                <a:arcTo wR="10800" hR="10800" stAng="-5025189" swAng="5025189"/>
                <a:lnTo>
                  <a:pt x="10800" y="10800"/>
                </a:lnTo>
                <a:close/>
              </a:path>
              <a:path fill="none" w="21600" h="21600">
                <a:moveTo>
                  <a:pt x="11975" y="64"/>
                </a:moveTo>
                <a:arcTo wR="10800" hR="10800" stAng="-5025189" swAng="502518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6000" y="1989000"/>
            <a:ext cx="8686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gabe mit/ohne Puffer</a:t>
            </a:r>
            <a:br>
              <a:rPr sz="28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java.util.Date;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WriteTest {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main(String[] args)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File outFile =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File("out.txt"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//FileOutputStream out = new FileOutputStream(outFile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BufferedOutputStream out =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BufferedOutputStream(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FileOutputStream(outFile),4096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i = 0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startTime = System.currentTimeMillis(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size = 33554432; // 32 MB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(i &lt; (size)) {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ut.write(i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i++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out.flush(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endTime = System.currentTimeMillis() - startTime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System.out.println("This run took " + endTime + " milliseconds (= "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(endTime / 1000) + " seconds)."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2060640"/>
            <a:ext cx="3600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entium 200, 64MB RAM, 16MB 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)  ohne Puffer 37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)  mit Puffer 134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4529160"/>
            <a:ext cx="36003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entium4, 1.8 GHz, 512MB RAM, 32 MB Datei, JDK 1.4.1, 32MB 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)  ohne Puffer 133,484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) 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rebuchet MS"/>
              </a:rPr>
              <a:t>mit Puffer 2,5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bjektserialisierung (1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8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öglichkeit,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bjek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uf Bytestrom zu schreiben bzw. von Bytestrom zu le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rsistenz, Datenübertragung über Netzwer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.B. RMI)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rialisierung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"theTim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ObjectOutputStream s = new ObjectOutputStream(ou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.writeObject("Today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.writeObject(new Date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.flush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bjektserialisierung (2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7840" y="2064960"/>
            <a:ext cx="8966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chreibt alle Objekte (inklusive referenzierter Objekte!), mit Ausnahme von al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transien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deklarierten Variab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konstruk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InputStream in = new FileInputStream("theTim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bjectInputStream s = new ObjectInputStream(in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today = (String)s.readObjec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ate date = (Date)s.readObjec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s transient deklarierte Objekte werden mit ihrem Initialwert beleg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bjektserialisierung (3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6760" y="2014200"/>
            <a:ext cx="8686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bjektstrom ist mit einem FIFO-Puffer zu vergleichen, d.h. die Reihenfolge der Serialisierung bleibt erhal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Objekte, die das Interfac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terstützen, können serialisiert werden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ackage java.io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ublic interface Serializable {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gene Klasse serialisierbar machen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ublic class MySerializableClas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mplements Serializabl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{ ... 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bjektserialisierung (4/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6760" y="1989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rialisierte Klassen erhalten (implizit oder explizit) eine eindeutige ID, die mit d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kzeug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rialv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bgefragt werden kan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ID kann dazu verwendet werden, über das Netzwerk übertragene Klassen auf ihre Eindeutigkeit hin zu über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sp: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ava serialver T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es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tatic final long serialVersionU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=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6163328431004415906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nströme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n- und Ausgabe erfolgt ausschließlich über 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lassen für Ein- und Ausgabe im Packag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java.io, java.n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undlegens Prinzip beim Lesen und Schreib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4221000"/>
            <a:ext cx="1152720" cy="648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0320" y="4437000"/>
            <a:ext cx="3595680" cy="281160"/>
          </a:xfrm>
          <a:custGeom>
            <a:avLst/>
            <a:gdLst>
              <a:gd name="textAreaLeft" fmla="*/ 0 w 3595680"/>
              <a:gd name="textAreaRight" fmla="*/ 3596040 w 3595680"/>
              <a:gd name="textAreaTop" fmla="*/ 36360 h 281160"/>
              <a:gd name="textAreaBottom" fmla="*/ 244800 h 281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4221000"/>
            <a:ext cx="1439640" cy="648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4581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01280" y="4202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553000"/>
            <a:ext cx="144000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589932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7040" y="5519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769000"/>
            <a:ext cx="3595680" cy="280800"/>
          </a:xfrm>
          <a:custGeom>
            <a:avLst/>
            <a:gdLst>
              <a:gd name="textAreaLeft" fmla="*/ 0 w 3595680"/>
              <a:gd name="textAreaRight" fmla="*/ 3596040 w 3595680"/>
              <a:gd name="textAreaTop" fmla="*/ 36360 h 280800"/>
              <a:gd name="textAreaBottom" fmla="*/ 244440 h 280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5553000"/>
            <a:ext cx="1152360" cy="647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7040" y="50976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571640" y="4797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551664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640" y="49608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i, Speicher, Socket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6760" y="1989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iltern von Daten, die gelesen (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lterInputStrea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oder geschrieben (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lterOutputStrea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 we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lennummer feststellen, Checksumme berechnen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igenen Lese-Filter schrei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ubklasse von FilterInputStream erzeug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Methoden überschreib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icherstellen, dass Input und Output-Streams zusammenarbeit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867040"/>
            <a:ext cx="9144000" cy="1076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 Java-Bibliothe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2006640"/>
            <a:ext cx="844884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Ein-/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Standard-IO, Streams, Files,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uch in Zusammenhang mit I/O (z.B. close bei finally..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haracter (En)Cod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lection-Mechanismus, dynamisches La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n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Dynamisch erweiterbare Program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46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16000" y="1989000"/>
            <a:ext cx="8928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scheidung: schwerer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ehl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Error) vs.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snah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lementarer Bestandtei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der Sprache und der AP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ry-catch-fin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orteile des Java-Exceptionhandl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Fehlerbehandlung getrennt vom "eigentlichen"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"Weiterreichen" von Ausnah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Gruppierung von Fehler-Typ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las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327320" y="2124000"/>
            <a:ext cx="1439640" cy="6476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7320" y="3151080"/>
            <a:ext cx="1439640" cy="6476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3320" y="2771640"/>
            <a:ext cx="306360" cy="1810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48040" y="293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4213080"/>
            <a:ext cx="1440000" cy="648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3320" y="3800520"/>
            <a:ext cx="306360" cy="1810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8" idx="3"/>
            <a:endCxn id="227" idx="0"/>
          </p:cNvCxnSpPr>
          <p:nvPr/>
        </p:nvCxnSpPr>
        <p:spPr>
          <a:xfrm rot="5400000">
            <a:off x="1576800" y="3732840"/>
            <a:ext cx="232200" cy="729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18960" y="5383080"/>
            <a:ext cx="237492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irtualMachine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2600" y="4879800"/>
            <a:ext cx="306360" cy="1810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46040" y="5076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46040" y="5202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3160" y="4956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48400" y="3132000"/>
            <a:ext cx="1439640" cy="648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8" idx="3"/>
            <a:endCxn id="235" idx="0"/>
          </p:cNvCxnSpPr>
          <p:nvPr/>
        </p:nvCxnSpPr>
        <p:spPr>
          <a:xfrm flipH="1" flipV="1" rot="5400000">
            <a:off x="3787200" y="1400400"/>
            <a:ext cx="850320" cy="4312440"/>
          </a:xfrm>
          <a:prstGeom prst="bentConnector5">
            <a:avLst>
              <a:gd name="adj1" fmla="val -13807"/>
              <a:gd name="adj2" fmla="val 31916"/>
              <a:gd name="adj3" fmla="val 1268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6224760" y="3781440"/>
            <a:ext cx="306360" cy="1810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19680" y="4213080"/>
            <a:ext cx="230508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untime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27680" y="421308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O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3"/>
            <a:endCxn id="238" idx="0"/>
          </p:cNvCxnSpPr>
          <p:nvPr/>
        </p:nvCxnSpPr>
        <p:spPr>
          <a:xfrm rot="5400000">
            <a:off x="5599440" y="3434400"/>
            <a:ext cx="250920" cy="130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7" idx="3"/>
            <a:endCxn id="239" idx="0"/>
          </p:cNvCxnSpPr>
          <p:nvPr/>
        </p:nvCxnSpPr>
        <p:spPr>
          <a:xfrm flipH="1" rot="16200000">
            <a:off x="6842160" y="3498480"/>
            <a:ext cx="250920" cy="1178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7534440" y="4087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69320" y="3833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19680" y="529272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exOutOf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ounds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27680" y="4861080"/>
            <a:ext cx="306360" cy="18072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2040" y="5057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27680" y="5292720"/>
            <a:ext cx="1727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OF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10600" y="4879800"/>
            <a:ext cx="306360" cy="1810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74040" y="507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64320" y="51800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99560" y="492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67360" y="51674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2240" y="491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 &amp; Auslös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6000" y="2090880"/>
            <a:ext cx="8686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wenden einer bestehenden Exception-Klass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.B.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untimeException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nur in Ausnahmefällen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...oder ableiten vo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der einer Unterklass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lass MyException extends SecurityException {}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2 Konstruktoren: mit und ohne Parameter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MyException(String msg){ super(msg); }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plizite Auslösung: Instanziierung und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throw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Anweisung</a:t>
            </a:r>
            <a:br>
              <a:rPr sz="24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hrow new MyException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"…"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ndlung (1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1600" y="1988640"/>
            <a:ext cx="88520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kale Fehlerbehandlung</a:t>
            </a:r>
            <a:br>
              <a:rPr sz="24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{ ... } // Algorithmu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IOException ioexc) {...}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MYException myexc) {...}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Exception e)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System.out.println("Fehler: " +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{...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nally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d in 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jedem</a:t>
            </a:r>
            <a:r>
              <a:rPr b="0" i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all durchlaufen! Code, der in jedem Fall ausgeführt werden muss, kann im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lock implementiert werden.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.B.: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f(out!=null) out.flush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snahmebehandlung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ndlung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6000" y="1988640"/>
            <a:ext cx="8928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itergabe der Exception (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back propaga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void openFile(String fileNam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FileNotFoundException {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FileInputStream st =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new FileInputStream(fileName); ..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sten von Ausnahmebehand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Verwalten der notwendigen Objek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lementieren der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Blöck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Kosten gering, da Ausnahmen eben Ausnahmen si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3740040"/>
            <a:ext cx="9144000" cy="720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 Java-Bibliothe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4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Ein-/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Standard-IO, Streams, Files,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Ausnahmebehand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Auch in Zusammenhang mit I/O (z.B. close bei finally..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haracter (En)Co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lection-Mechanismus, dynamisches La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n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Dynamisch erweiterbare Program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New 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726920"/>
            <a:ext cx="86868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eit J2SDK 1.4, erweitert IO, java.n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Buffers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ür primitive Datenty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Character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ncoders and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cod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gular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xpressions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java.util.rege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Channels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a new primitive I/O abstrac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Verbindungen zu IO fähigen Entitäten (Files, Socke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ischnittstellen für das Sperren von Dateien und Memory Mapped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Fähigkeit, Multiplexed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cht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-block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erende Server zu schrei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93996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Character Se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1549080"/>
            <a:ext cx="83818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Package java.nio.charset</a:t>
            </a:r>
            <a:r>
              <a:rPr b="1" lang="de-A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finiert Character Sets, Codier- und Entcodier Möglichkeiten für die Übersetzung von Bytes in Unicode Zeic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har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 „Zeichensatz“ ist ein Mapping zwischen Sequenzen von 16 Bit-Unicode Zeichen und Sequenzen von By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 Charset hat immer einen eindeutigen kanonischen Namen und kann einen oder mehrere Aliases besi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RFC 2278: IANA Charset Registration Procedur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http://ietf.org/rfc/rfc2278.t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S-ASCII, ISO-8859-1, UTF-8, UTF-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'\u0041'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9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'\u0039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87560" y="4005360"/>
            <a:ext cx="3168360" cy="2160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81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nströme (2/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06160"/>
            <a:ext cx="8686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eam Klassen unterteilt in zwei Klassen-Hierarchien, basierend auf Datentyp, auf dem sie operi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2023920" y="4221000"/>
            <a:ext cx="93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03200" y="4726080"/>
            <a:ext cx="93528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00280" y="4726080"/>
            <a:ext cx="93492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3200" y="5229360"/>
            <a:ext cx="93528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5229360"/>
            <a:ext cx="93492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6840" y="5734080"/>
            <a:ext cx="93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807920" y="44370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55920" y="44370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828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03560" y="4941720"/>
            <a:ext cx="504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00280" y="494172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4005360"/>
            <a:ext cx="3168720" cy="2160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9080" y="4221000"/>
            <a:ext cx="934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4726080"/>
            <a:ext cx="93492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5080" y="4726080"/>
            <a:ext cx="9352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5229360"/>
            <a:ext cx="93492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5229360"/>
            <a:ext cx="935280" cy="21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5734080"/>
            <a:ext cx="934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52720" y="44370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443700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494172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45080" y="494172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9840" y="35733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acter-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7720" y="357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te-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Character Co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ative Java Character Coding: Unicode 3 (die ersten 17 Tabell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ding: UTF-16 (16 Bit pro Zeich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fault Encoding der JVM hängt vom OS ab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indows: CP1252 (ISO-8859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inux RedHat 7.1: ISO-8859-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inux Redhat 9: ISO-8859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Character Coding 1/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7840" y="1778040"/>
            <a:ext cx="8966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dieren eines Strings in ISO-8859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text = new String("Das Euro Symbol: €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yte byteArrIso[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yteArrIso = text.getBytes("ISO-8859-1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 catch (UnsupportedEncodingException u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ue.getMessag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Orginal String: " + 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Bytes to ISO-8859-1: " +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ring(byteArrIso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95256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Character Coding 2/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65240" y="1510920"/>
            <a:ext cx="88135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java.io.OutputStreamWrit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tends Wr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ittstelle von Character Streams zu Byte Str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OutputStreamWriter(OutputStream out, String charsetName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OutputStreamWriter(OutputStream out, Charset cs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getEncoding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Writer out = new BufferedWriter(new OutputStreamWriter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new FileOutputStream(outFile),“UTF-8“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java.io.InputStreamRead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tends R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ittstelle von Byte Streams zu Character Str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InputStreamReader(InputStream in, String charsetName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InputStreamReader(InputStream in, Charset cs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getEncoding(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Reader in = new BufferedReader(new InputStreamReader(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  new FileInputStream(inputFile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, "UTF-8")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de-AT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560" y="927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Character Coding 3/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7480" y="1486080"/>
            <a:ext cx="881388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eiben einer Date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String text = new String("Das Euro Symbol: €!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putStreamWriter outWriter = nul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try {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File outFile = new File("C:\\UTF-8.txt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Writer = new OutputStreamWriter(new BufferedOutputStream(new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FileOutputStream(outFile),4096),"UTF-8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Writer.write(tex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 catch (UnsupportedEncodingException u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 catch (FileNotFoundException fn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 catch (IOException io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 finall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if (outWriter !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outWriter.clo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 catch (IOException io) {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4635360"/>
            <a:ext cx="9144000" cy="1165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undlegende Java-Bibliothe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3840" y="1854360"/>
            <a:ext cx="844848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Ein-/Ausga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Standard-IO, Streams, Files, 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Ausnahmebehand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Auch in Zusammenhang mit I/O (z.B. close bei finally..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Verdana"/>
              </a:rPr>
              <a:t>New 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808080"/>
                </a:solidFill>
                <a:latin typeface="Verdana"/>
              </a:rPr>
              <a:t>Character (En)Co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lection-Mechanismus, dynamisches Lad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n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Dynamisch erweiterbare Program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Reflection-Mechanismu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Übersic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rundidee ist die dynamisch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rweiterbark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ckag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java.lang.refl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chnittstell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zwischen Anwendungsprogrammierung und virtueller Maschine (z.B. bei JavaBea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alls es der Sicherheitsmanager erlaubt, können folgend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unktion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realisiert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zeugen von Klassen und Feldern zur Laufz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griff und Modifikation von Objekten und auch 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ruf von Metho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griff und Modifikation von Feldeleme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22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Reflection-Mechanismu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ta-Informatio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java.lang.Class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ass c1 = Class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Nam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"java.util.Vector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ass c2 = obj.getClass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1.getName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ector v = (Vector)c1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Instanc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oolean b = Vector.class ==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Class.forName("java.util.Vector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java.lang.reflec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ass s = c.getSuperclass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ass[] interf = c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Interfaces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nstructor[] con = c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DeclaredConstructors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ield[] fields = c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DeclaredFields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ethod[] methods = c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DeclaredMethod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47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Reflection-Mechanismu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nwend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Beispiel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ackage p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mport java.lang.reflect.*;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ublic class Test extends Object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public static void main (String[] args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throws Exception {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Test t = new Test(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System.out.println("Test is of " +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"type \"" + t.getClass() + "\"")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Class tc = Class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Name("p.Test"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Test t2 = (Test)tc.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Instance(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Reflection-Mechanismu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ynamisches Laden von Klass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3800" y="1988640"/>
            <a:ext cx="86547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lassen werden erst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Bedar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gela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Automatisch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bei Programmstart die </a:t>
            </a:r>
            <a:r>
              <a:rPr b="0" i="1" lang="de-DE" sz="2200" spc="-1" strike="noStrike">
                <a:solidFill>
                  <a:srgbClr val="000000"/>
                </a:solidFill>
                <a:latin typeface="Verdana"/>
              </a:rPr>
              <a:t>Ma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Klass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d rekursiv alle in dieser Klasse referenzierten Klasse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Von der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Anwendung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nitiiert, z.B.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“oracle.jdbc.driver.OracleDriver”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ystem-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lassLoad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lädt Klassen und Pack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mgebungsvariable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CLASS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Verzeichnisse mit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.class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Dateien und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.ja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Arch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ei Applets auch via HTTP (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java.net.URLClassLoade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lbst definierte ClassLo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e der 1. Üb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71480" y="2616120"/>
            <a:ext cx="755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81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haracter-Str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2230200"/>
            <a:ext cx="8636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eams, die 16-bit Characters lesen/schrei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Abstrak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uperklassen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Reade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klassen (spezialisierte Streams) unterteilt in zwei Kategori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Lesen bzw. Schreiben in/von Datenquellen/-senken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z.B.: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tringReade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PipedWrite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"Verarbeitungen" auf Datenströmen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z.B.: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BufferedReade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FilterWriter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llten verwendet werden, da Unicode-Unterstütz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6080" y="1450800"/>
            <a:ext cx="6438600" cy="4962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801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in- und Ausgabe Read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463880" y="25272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54880" y="2997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5160" y="2522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85240" y="29894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3920" y="28335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6440" y="3849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03200" y="3284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720" y="1986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520" y="2128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7800" y="44402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7480" y="46083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1320" y="53672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720" y="54784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 Wri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2680" y="1442880"/>
            <a:ext cx="6505560" cy="495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4600" y="25272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4880" y="29973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75160" y="2522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85240" y="29894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440" y="28051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20920" y="4297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7680" y="4989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33640" y="5757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5160" y="1986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1920" y="3811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37440" y="56181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480" y="25383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365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yte-Str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1200" y="2242800"/>
            <a:ext cx="8686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eams, die 8-bit Bytes lesen/schreib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Abstrak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uperklassen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klassen unterteilt in lesende/schreibende und verarbeitende 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rweise benutzt zum Lesen/Schreiben von binären Daten (Bilder, Sounds etc.) bzw. zur Objektserialis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Ein- und Ausgabe InputStre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360" y="1536840"/>
            <a:ext cx="6770880" cy="487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63880" y="1908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4880" y="2378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5160" y="1903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85240" y="23702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160" y="21099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63760" y="3192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98680" y="27226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67720" y="37288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840" y="41162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0040" y="30463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86800" y="3662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69280" y="42210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>Alexander Sommer</dc:creator>
  <dc:description/>
  <dc:language>en-US</dc:language>
  <cp:lastModifiedBy>Alexander Sommer</cp:lastModifiedBy>
  <dcterms:modified xsi:type="dcterms:W3CDTF">2006-10-09T14:32:14Z</dcterms:modified>
  <cp:revision>135</cp:revision>
  <dc:subject/>
  <dc:title>Grundlegende Java Bibliotheken</dc:title>
</cp:coreProperties>
</file>