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621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324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bteilung für Bioinformatik, JKU Li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084720" y="6392880"/>
            <a:ext cx="2584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rebuchet MS"/>
              </a:rPr>
              <a:t>JDK 1.5 - </a:t>
            </a:r>
            <a:fld id="{85035C2A-768C-4797-B858-38C055FB76A2}" type="slidenum">
              <a:rPr b="1" lang="de-DE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java.sun.com/developer/technicalArticles/releases/j2se15/" TargetMode="External"/><Relationship Id="rId2" Type="http://schemas.openxmlformats.org/officeDocument/2006/relationships/hyperlink" Target="http://java.sun.com/developer/technicalArticles/releases/j2se15/" TargetMode="External"/><Relationship Id="rId3" Type="http://schemas.openxmlformats.org/officeDocument/2006/relationships/hyperlink" Target="http://java.sun.com/developer/technicalArticles/releases/j2se15/" TargetMode="External"/><Relationship Id="rId4" Type="http://schemas.openxmlformats.org/officeDocument/2006/relationships/hyperlink" Target="http://java.sun.com/developer/technicalArticles/releases/j2se15/" TargetMode="External"/><Relationship Id="rId5" Type="http://schemas.openxmlformats.org/officeDocument/2006/relationships/hyperlink" Target="http://java.sun.com/developer/technicalArticles/releases/j2se15/" TargetMode="External"/><Relationship Id="rId6" Type="http://schemas.openxmlformats.org/officeDocument/2006/relationships/hyperlink" Target="http://java.sun.com/developer/technicalArticles/releases/j2se15/" TargetMode="External"/><Relationship Id="rId7" Type="http://schemas.openxmlformats.org/officeDocument/2006/relationships/hyperlink" Target="http://java.sun.com/developer/technicalArticles/releases/j2se15/" TargetMode="External"/><Relationship Id="rId8" Type="http://schemas.openxmlformats.org/officeDocument/2006/relationships/hyperlink" Target="http://java.sun.com/developer/technicalArticles/releases/j2se15/" TargetMode="External"/><Relationship Id="rId9" Type="http://schemas.openxmlformats.org/officeDocument/2006/relationships/hyperlink" Target="http://java.sun.com/developer/technicalArticles/releases/j2se15/" TargetMode="External"/><Relationship Id="rId10" Type="http://schemas.openxmlformats.org/officeDocument/2006/relationships/hyperlink" Target="http://java.sun.com/j2se/1.5.0/" TargetMode="External"/><Relationship Id="rId11" Type="http://schemas.openxmlformats.org/officeDocument/2006/relationships/hyperlink" Target="http://java.sun.com/j2se/1.5.0/" TargetMode="External"/><Relationship Id="rId12" Type="http://schemas.openxmlformats.org/officeDocument/2006/relationships/hyperlink" Target="http://java.sun.com/j2se/1.5.0/" TargetMode="External"/><Relationship Id="rId13" Type="http://schemas.openxmlformats.org/officeDocument/2006/relationships/hyperlink" Target="http://www.devchannel.org/devtoolschannel/04/04/29/1549221.shtml" TargetMode="External"/><Relationship Id="rId14" Type="http://schemas.openxmlformats.org/officeDocument/2006/relationships/hyperlink" Target="http://www.devchannel.org/devtoolschannel/04/04/29/1549221.shtml" TargetMode="External"/><Relationship Id="rId15" Type="http://schemas.openxmlformats.org/officeDocument/2006/relationships/hyperlink" Target="http://www.devchannel.org/devtoolschannel/04/04/29/1549221.shtml" TargetMode="External"/><Relationship Id="rId16" Type="http://schemas.openxmlformats.org/officeDocument/2006/relationships/hyperlink" Target="http://www.devchannel.org/devtoolschannel/04/04/29/1549221.shtml" TargetMode="External"/><Relationship Id="rId17" Type="http://schemas.openxmlformats.org/officeDocument/2006/relationships/hyperlink" Target="http://www.devchannel.org/devtoolschannel/04/04/29/1549221.shtml" TargetMode="External"/><Relationship Id="rId18" Type="http://schemas.openxmlformats.org/officeDocument/2006/relationships/hyperlink" Target="http://www-106.ibm.com/developerworks/views/java/articles.jsp?sort_order=desc&amp;expand=&amp;sort_by=Date&amp;show_abstract=true&amp;view_by=Search&amp;search_by=taming%20tiger%3A" TargetMode="External"/><Relationship Id="rId19" Type="http://schemas.openxmlformats.org/officeDocument/2006/relationships/hyperlink" Target="http://www-106.ibm.com/developerworks/views/java/articles.jsp?sort_order=desc&amp;expand=&amp;sort_by=Date&amp;show_abstract=true&amp;view_by=Search&amp;search_by=taming%20tiger%3A" TargetMode="External"/><Relationship Id="rId20" Type="http://schemas.openxmlformats.org/officeDocument/2006/relationships/hyperlink" Target="http://www-106.ibm.com/developerworks/views/java/articles.jsp?sort_order=desc&amp;expand=&amp;sort_by=Date&amp;show_abstract=true&amp;view_by=Search&amp;search_by=taming%20tiger%3A" TargetMode="External"/><Relationship Id="rId21" Type="http://schemas.openxmlformats.org/officeDocument/2006/relationships/hyperlink" Target="http://www-106.ibm.com/developerworks/views/java/articles.jsp?sort_order=desc&amp;expand=&amp;sort_by=Date&amp;show_abstract=true&amp;view_by=Search&amp;search_by=taming%20tiger%3A" TargetMode="External"/><Relationship Id="rId22" Type="http://schemas.openxmlformats.org/officeDocument/2006/relationships/hyperlink" Target="http://www-106.ibm.com/developerworks/views/java/articles.jsp?sort_order=desc&amp;expand=&amp;sort_by=Date&amp;show_abstract=true&amp;view_by=Search&amp;search_by=taming%20tiger%3A" TargetMode="External"/><Relationship Id="rId23" Type="http://schemas.openxmlformats.org/officeDocument/2006/relationships/hyperlink" Target="http://www-106.ibm.com/developerworks/views/java/articles.jsp?sort_order=desc&amp;expand=&amp;sort_by=Date&amp;show_abstract=true&amp;view_by=Search&amp;search_by=taming%20tiger%3A" TargetMode="External"/><Relationship Id="rId24" Type="http://schemas.openxmlformats.org/officeDocument/2006/relationships/hyperlink" Target="http://www-106.ibm.com/developerworks/views/java/articles.jsp?sort_order=desc&amp;expand=&amp;sort_by=Date&amp;show_abstract=true&amp;view_by=Search&amp;search_by=taming%20tiger%3A" TargetMode="External"/><Relationship Id="rId2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Neues im JDK 1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873520"/>
            <a:ext cx="9144000" cy="936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2SE 1.5.0 Ti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ew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imeline, Überbl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ums, For Loop, 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ava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ingBuilder, For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nsti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Typsichere Enumerationen weisen die folgenden Eigenschaften auf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Sie bieten Typsicherheit zur Kompilierzei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Sie sind Objekte und können daher in Collections integriert werd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Sie sind als Klasse implementiert, so dass eigene Methoden hinzugefügt werden könn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Sie bieten einen ordnungsgemäßen Namensraum für den Typ Enumer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Ihre ausgegebenen Werte sind informativ – wenn man dagegen ein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int enum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 ausgibt, sieht man nur eine Zahl, die unter Umständen nicht so aussagekräftig i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Typdafe Enumerations (1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class EnumTest1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enum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Color {red, green, blue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main(String args[]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java.util.Arrays.asList(Color.values()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for (Color aColor : Color.values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witch(aColor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ase red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Got red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ase gree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Got green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ase blu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Got blue.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} }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Typsafe Enumerations (Bsp 1) (2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class EnumTest2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enum Coin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OneCent(1), FiveCent(5), TenCent(10), Quarter(25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rivate final int val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Coin(int value)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this.value = valu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int value()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return valu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Typsafe Enumerations (Bsp 2) (3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class CoinTest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for (EnumTest2.Coin c : EnumTest2.Coin.values()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c+": \t"+c.value()+" cent \t"+color(c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rivate enum Coin2Color { copper, nickel, silver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rivate static Coin2Color color(EnumTest2.Coin c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witch(c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ase OneCent: return Coin2Color.copper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ase FiveCent: return Coin2Color.nicke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ase TenCen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ase Quarter: return Coin2Color.silver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default: throw new AssertionError("Unknown Coin: " + c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Typsafe Enumerations (Bsp 2)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Autoboxing/Unboxing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Eliminiert das „lästige“ Umwandeln von primitiven Datentypen in ihre Wrapper Klas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Integer 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Double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 dou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Etc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Umwandeln übernimmt der Comp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Achtung Nullpointer Exceptions mögli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Autoboxing/Unboxing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autoBox14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x = 44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eger y = Integer.valueOf(x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z = y.intValu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autoBox15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x = 44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eger y =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z =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eger a = nul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x = 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a is: " + x); // Nullpointer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Generics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1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Beim </a:t>
            </a:r>
            <a:r>
              <a:rPr b="0" i="1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Casten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 eines Objektes gibt man de Typ eines Objektes an.  Man glaubt zu wissen, welches Objekt man 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ring s = (String)objec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Warum kann das nicht der Compiler für uns machen? Wir sagen ihm welches Objekt wir erwarten und er macht das </a:t>
            </a:r>
            <a:r>
              <a:rPr b="0" i="1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Casten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 für u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Typsicherheit zur Kompilierzeit und wahrscheinlich weniger ClassCastExceptions während der Laufze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Generics sind nicht Templates (C+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Nichts magisches, Compiler erledigt die Ca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Generics (Bsp 1.4)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2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printOS14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List osSystems = new ArrayList()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osSystems.add("Linux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osSystems.add("Mac O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osSystems.add(new String("Solaris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osSystems.add(new StringBuffer("DOS"));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// runtime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terator it = osSystems.iterato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while (i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tring s = (String)it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OS System has length " + s.length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catch (ClassCastException c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e.printStackTrace();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Generics (Bsp 1.5)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3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printOS15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List&lt;String&gt; osSystems = new ArrayList&lt;String&gt;()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osSystems.add("Windows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osSystems.add("Unix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osSystems.add(new String("Free BSD"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// compile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// osSystems.add(new StringBuffer("Novell"));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terator&lt;String&gt; it = osSystems.iterato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while (it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OS System has length " + it.next().length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936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2SE 1.5.0 Ti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ew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imeline, Überbl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ums, For Loop, 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ava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ingBuilder, For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nsti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53080" y="1066680"/>
            <a:ext cx="2181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Generics (Bsp 1.4)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4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list14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List ys = new LinkedLis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ys.add("zero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ys.add("one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List ys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yss = new LinkedLis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yss.add(y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tring y = (String)((List)yss.iterator().next()).iterator()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nteger z = (Integer)ys.iterator()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catch (ClassCastException c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e.printStackTrac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Generics (Bsp 1.5)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5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1920" y="21333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list15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List&lt;String&gt; ys = new LinkedList&lt;String&gt;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ys.add("zero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ys.add("one");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List&lt;List&lt;String&gt;&gt; ys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yss = new LinkedList&lt;List&lt;String&gt;&gt;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yss.add(y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tring y = yss.iterator().next().iterator()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// compile err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// Integer z = ys.iterator()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Generics (Bsp 1.5)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6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1920" y="21333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lass Collection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</a:t>
            </a:r>
            <a:r>
              <a:rPr b="0" lang="de-AT" sz="1600" spc="-1" strike="noStrike">
                <a:solidFill>
                  <a:srgbClr val="ff3333"/>
                </a:solidFill>
                <a:latin typeface="Courier New"/>
                <a:ea typeface="Arial"/>
              </a:rPr>
              <a:t>&lt;S,T extends S&gt;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void copy(List</a:t>
            </a:r>
            <a:r>
              <a:rPr b="0" lang="de-AT" sz="1600" spc="-1" strike="noStrike">
                <a:solidFill>
                  <a:srgbClr val="ff3333"/>
                </a:solidFill>
                <a:latin typeface="Courier New"/>
                <a:ea typeface="Arial"/>
              </a:rPr>
              <a:t>&lt;S&gt;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dest, List</a:t>
            </a:r>
            <a:r>
              <a:rPr b="0" lang="de-AT" sz="1600" spc="-1" strike="noStrike">
                <a:solidFill>
                  <a:srgbClr val="ff3333"/>
                </a:solidFill>
                <a:latin typeface="Courier New"/>
                <a:ea typeface="Arial"/>
              </a:rPr>
              <a:t>&lt;T&gt;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rc) 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lass Collection</a:t>
            </a:r>
            <a:r>
              <a:rPr b="0" lang="de-AT" sz="1600" spc="-1" strike="noStrike">
                <a:solidFill>
                  <a:srgbClr val="ff3333"/>
                </a:solidFill>
                <a:latin typeface="Courier New"/>
                <a:ea typeface="Arial"/>
              </a:rPr>
              <a:t>&lt;E&gt;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</a:t>
            </a:r>
            <a:r>
              <a:rPr b="0" lang="de-AT" sz="1600" spc="-1" strike="noStrike">
                <a:solidFill>
                  <a:srgbClr val="ff3333"/>
                </a:solidFill>
                <a:latin typeface="Courier New"/>
                <a:ea typeface="Arial"/>
              </a:rPr>
              <a:t>&lt;T&gt;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boolean containsAll(Collection</a:t>
            </a:r>
            <a:r>
              <a:rPr b="0" lang="de-AT" sz="1600" spc="-1" strike="noStrike">
                <a:solidFill>
                  <a:srgbClr val="ff3333"/>
                </a:solidFill>
                <a:latin typeface="Courier New"/>
                <a:ea typeface="Arial"/>
              </a:rPr>
              <a:t>&lt;T&gt;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) 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</a:t>
            </a:r>
            <a:r>
              <a:rPr b="0" lang="de-AT" sz="1600" spc="-1" strike="noStrike">
                <a:solidFill>
                  <a:srgbClr val="ff3333"/>
                </a:solidFill>
                <a:latin typeface="Courier New"/>
                <a:ea typeface="Arial"/>
              </a:rPr>
              <a:t>&lt;T extends E&gt;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boolean addAll(Collection</a:t>
            </a:r>
            <a:r>
              <a:rPr b="0" lang="de-AT" sz="1600" spc="-1" strike="noStrike">
                <a:solidFill>
                  <a:srgbClr val="ff3333"/>
                </a:solidFill>
                <a:latin typeface="Courier New"/>
                <a:ea typeface="Arial"/>
              </a:rPr>
              <a:t>&lt;T&gt;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) 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Generics (Bsp 1.5)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7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1920" y="21333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Generics vs. Templ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Unlike C++, generic declarations are type check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Generics are compiled once and for 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No code blo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Generic source code not exposed to user - No hideous complex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No template meta-program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de-AT" sz="2000" spc="-1" strike="noStrike">
                <a:solidFill>
                  <a:srgbClr val="ff0000"/>
                </a:solidFill>
                <a:latin typeface="Verdana"/>
                <a:ea typeface="Arial"/>
              </a:rPr>
              <a:t>Simply provide compile-time type safety and eliminate need for c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21932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Enhanced For Loop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1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1920" y="21333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Iterationen über Collections sind aufwendi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Der Iterator wird nur für das Holen des Elements verwend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Iteratoren sind fehleranfälli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Iterator-variable erscheint 3 mal pro Schlei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Common Cut and Paste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Warum kümmert sich nicht der Compiler um den Iterat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Enhanced For Loop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2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terator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t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= osSystems.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terator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while (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t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.hasNext()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tring s = (String)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t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.next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OS System has length " + s.length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catch (ClassCastException c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ce.printStackTrace();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for (String s: osSystems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OS System has length " + s.length(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Enhanced For Loop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(3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Funktioniert auch für Arr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nt[] x = {10,20,30,40,50}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for (int i : x) System.out.println(i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Achtu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for (int i : 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Wird z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for (int g=0;g&lt;x.length;++g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nt i = x[g]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Dieser Code funktioniert nich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for (int i : x) .. if i == 55 ..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Metadata (1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Das Metadaten-Feature ist darauf ausgelegt, den Entwicklern durch die Unterstützung der von Anbietern bereitgestellten Tools die Arbeit zu erleicht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Anno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Viele API‘s benötigen zweit Files (EJB‘s)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 Tools sollen diese generie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Beispiel: JAX-RPC Web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Metadata (2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interface CoffeeOrderIF extends java.rmi.Remote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Coffee [] getPriceList() throws java.rmi.RemoteExceptio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ring orderCoffee(String name, int quantity) throws 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       java.rmi.RemoteException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class CoffeeOrderImpl implements CoffeeOrderIF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Coffee [] getPriceLis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ring orderCoffee(String name, int quantit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Metadata (3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// JAX-RPC Web Service with Metada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import javax.xml.rpc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class CoffeeOrder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@Remote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public Coffee [] getPriceList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@Remote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public String orderCoffee(String name, int quantity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3920" y="2300400"/>
            <a:ext cx="8696160" cy="2257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2SE Plattform Versionen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11624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Aktuelle Vers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Jdk 1.4.2_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Jdk 1.5.0_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Jdk 6 Bet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Static Import</a:t>
            </a:r>
            <a:r>
              <a:rPr b="1" lang="de-AT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(1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Konstanten werden oft in eigenen Klassen definier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class Physics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final double AVOGADROS_NUMBER = 6.02214199e23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final double BOLTZMANN_CONSTANT = 1.3806503e-23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final double ELECTRON_MASS = 9.10938188e-3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Bei Verwendung muss Konstante qualifiziert we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Courier New"/>
                <a:ea typeface="Arial"/>
              </a:rPr>
              <a:t>double molecules = </a:t>
            </a:r>
            <a:r>
              <a:rPr b="1" lang="de-AT" sz="1400" spc="-1" strike="noStrike">
                <a:solidFill>
                  <a:srgbClr val="000000"/>
                </a:solidFill>
                <a:latin typeface="Courier New"/>
                <a:ea typeface="Arial"/>
              </a:rPr>
              <a:t>Physics.AVOGADROS_NUMBER</a:t>
            </a:r>
            <a:r>
              <a:rPr b="0" lang="de-AT" sz="1400" spc="-1" strike="noStrike">
                <a:solidFill>
                  <a:srgbClr val="000000"/>
                </a:solidFill>
                <a:latin typeface="Courier New"/>
                <a:ea typeface="Arial"/>
              </a:rPr>
              <a:t> * mole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Oft wird statt dessen ein „Konstanten-Interface“ definiert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Antipatte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Lösung: Static Import 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Möglichk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Static Import</a:t>
            </a:r>
            <a:r>
              <a:rPr b="1" lang="de-AT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(2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Analog zur Package Import Möglichk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Importiert die statischen Mitglieder einer Klasse, anstatt die Klasse eines Pack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Einzel Import oder a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Importiert auch Methoden und En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Ist das wirklich ein Vorteil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Viele IDE‘s bieten automatischen Im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Wird Code wirklich lesbar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Static Import</a:t>
            </a:r>
            <a:r>
              <a:rPr b="1" lang="de-AT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(3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import static org.iso.Physics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public class Guacamo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double molecules = AVOGADROS_NUMBER * mo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import static java.lang.Math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// Statt: x =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Math.co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(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Math.PI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* thet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x = 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cos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(</a:t>
            </a:r>
            <a:r>
              <a:rPr b="1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PI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* thet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Varargs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Um an eine Methode eine variable Anzahl von Parametern zu übergeben, muss man ein Array verwe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Arrays anlegen und füllen ist mühs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Funktionalität wie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intf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 in C,C++ ist nicht mögli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// Bis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printem(String x[]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for (int t=0;t&lt;x.length;++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x[t]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main(String args[]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rintem(new String[] {"bob","fred","joe"});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Varargs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// Ne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printem(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tring... x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for (int t=0;t&lt;x.length;++t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x[t]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main(String args[]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JDK1.5 Style!");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rintem</a:t>
            </a:r>
            <a:r>
              <a:rPr b="1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("bob","fred","joe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JDK1.4 Style!");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printem(new String[] {"bob","fred","joe"});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733920"/>
            <a:ext cx="9144000" cy="936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2SE 1.5.0 Tig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ew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imeline, Überbl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ava Spracherweiter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ums, For Loop, 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ava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ringBuilder, For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nsti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API New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StringBui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Bisher war StringBuffer die bevorzugte Klasse um Strings zusammen zubau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Strings immu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StringBuffer ist synchronisi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StringBuilder ist ein Plug-In Replacement für StringBuf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StringBuilder ist nicht synchronisi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Bessere Performan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java.lang.StringBuil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API New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Stack T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Neue Diagnose API‘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class StackTrace1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main(String args[]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java.lang.StackTraceElement ste[] =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   Thread.currentThread().getStackTrace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for (int i=0; i &lt;ste.length; i++) 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ste[i]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Thread.getAllStackTraces(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API New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Formatted Output/Input (1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Häufig verwendete Funktion in C: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sprintf(..); 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  <a:ea typeface="Arial"/>
              </a:rPr>
              <a:t> Anstatt mehrere Strings durch „+“ Zusammenzuhängen, wird ein einzelner String mit dem Format und die Argumente an eine Methode übergeb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String firstName = "Bill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String lastName = "Gates"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String s = "Mein Name ist: " + firstName + " " + lastNam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String s = String.format("Mein Name ist: %1$s %2$s", 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         firstName, lastNam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API New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Formatted Output/Input (2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Die java.util.Formatter class, ist die Ausgangsklas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Hier sind alle printf-Optionen erklä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  <a:ea typeface="Arial"/>
              </a:rPr>
              <a:t>Bsp.: PI mit 10 Dezimalste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ringBuilder sb = new StringBuilder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Formatter formatter = new Formatter(s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formatter.format("PI = %12.10f", Math.P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formatte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429000"/>
            <a:ext cx="2743200" cy="457200"/>
          </a:xfrm>
          <a:prstGeom prst="wedgeRectCallout">
            <a:avLst>
              <a:gd name="adj1" fmla="val -41490"/>
              <a:gd name="adj2" fmla="val 2187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java.lang.</a:t>
            </a:r>
            <a:r>
              <a:rPr b="0" lang="de-AT" sz="1600" spc="-1" strike="noStrike">
                <a:solidFill>
                  <a:srgbClr val="000000"/>
                </a:solidFill>
                <a:latin typeface="Courier New"/>
              </a:rPr>
              <a:t>Append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Verdana"/>
              </a:rPr>
              <a:t>Jsdk1.5 Übersich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1674720"/>
            <a:ext cx="60199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API New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Formatted Output/Input (3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28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Viele Klassen bieten die Methode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format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 an zb. PrintStr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format("Today is %1$tB %1$te, %1$tY."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Calendar.getInstanc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Today is May 24, 200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f("Today is %1$tB %1$te, %1$tY."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 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Calendar.getInstanc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Today is May 24, 200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API New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Formatted Output/Input (4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Mit Hilfe der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canner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 Klasse können formatierte Strings von einem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ream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  <a:ea typeface="Arial"/>
              </a:rPr>
              <a:t> gelesen werd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canner s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ring param= s.next(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int value=s.nextInt(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First Param was: " + para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Second Param was: " + valu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API New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Properties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  <a:ea typeface="Arial"/>
              </a:rPr>
              <a:t>Für Konfigurationszwecke gibt es bisher die Möglichkeit Key und Values in einem Property-File zu  speicher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key =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key2 = value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  <a:ea typeface="Arial"/>
              </a:rPr>
              <a:t>Nun gibt es die Möglichkeit die Properties auch im XML Format abzuspeich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!DOCTYPE properties SYSTEM  "http://java.sun.com/dtd/properties.dtd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properties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comment&gt;Hi&lt;/comment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entry key="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key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"&gt;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value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/entry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entry key="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key2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"&gt;</a:t>
            </a:r>
            <a:r>
              <a:rPr b="1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value2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/entry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/properties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21932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API New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Properties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operties prop = new Properti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FileInputStream fis = new FileInputStream("props.xml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op.loadFromXML(fi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prop.list(System.o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\nThe key property: " +</a:t>
            </a:r>
            <a:br>
              <a:rPr sz="2000"/>
            </a:br>
            <a:r>
              <a:rPr b="0" lang="de-AT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 prop.getProperty(„key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21932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ava API News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Man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192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mport java.lang.managemen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import javax.management.*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class MemTes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static void main(String args[]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List&lt;java.lang.management.MemoryPoolMXBean&gt; pools  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= ManagementFactory.getMemoryPoolMXBean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for(MemoryPoolMXBean p: pools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Memory type="+p.getType(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"Memory usage="+p.getUsage(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onsti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ink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2"/>
              </a:rPr>
              <a:t>java.sun.com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3"/>
              </a:rPr>
              <a:t>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4"/>
              </a:rPr>
              <a:t>developer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5"/>
              </a:rPr>
              <a:t>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6"/>
              </a:rPr>
              <a:t>technicalArticles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7"/>
              </a:rPr>
              <a:t>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8"/>
              </a:rPr>
              <a:t>releases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9"/>
              </a:rPr>
              <a:t>/j2se15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0"/>
              </a:rPr>
              <a:t>http:/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1"/>
              </a:rPr>
              <a:t>java.sun.com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2"/>
              </a:rPr>
              <a:t>/j2se/1.5.0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3"/>
              </a:rPr>
              <a:t>http:/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4"/>
              </a:rPr>
              <a:t>www.devchannel.org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5"/>
              </a:rPr>
              <a:t>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6"/>
              </a:rPr>
              <a:t>devtoolschannel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7"/>
              </a:rPr>
              <a:t>/04/04/29/1549221.s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8"/>
              </a:rPr>
              <a:t>http://www-106.ibm.com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19"/>
              </a:rPr>
              <a:t>developerworks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20"/>
              </a:rPr>
              <a:t>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21"/>
              </a:rPr>
              <a:t>views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22"/>
              </a:rPr>
              <a:t>/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23"/>
              </a:rPr>
              <a:t>java</a:t>
            </a:r>
            <a:r>
              <a:rPr b="0" lang="de-AT" sz="1800" spc="-1" strike="noStrike" u="sng">
                <a:solidFill>
                  <a:srgbClr val="003366"/>
                </a:solidFill>
                <a:uFillTx/>
                <a:latin typeface="Verdana"/>
                <a:hlinkClick r:id="rId24"/>
              </a:rPr>
              <a:t>/articles.jsp?sort_order=desc&amp;expand=&amp;sort_by=Date&amp;show_abstract=true&amp;view_by=Search&amp;search_by=taming%20tiger%3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http://www.tyma.com/tymajdk15.p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de der 2. Üb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417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Java Heap Self Tu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(Selbst)-Einstellung des Heap wurde optimiert (Performance und Speicherverbrauc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Class Data Sha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Soll Startzeit bei kleinen Applikationen reduzie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Teile der Standardbibliotheken werden in ein Memory-Mapped-File ausgelage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jre\bin\client\classes.j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MMF wird zwischen mehreren VM‘s getei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Garbage Collector Ergono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Parallele Garbage Collector verbesse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ig Size Verbesserungen, besseres adaptives Verhal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Fatal Error Hand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2SE 1.5 New Features 1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Java Virtual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Autoboxing/Unbox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Abschaffung der manuellen Konvertierung von primitiven Typen und ihren Wrapper Kla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nhanced For 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Neues Schleifen Konstrukt für Collections und Arr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Gener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Bieten Typsicherheit zur Kompilierzeit für Collections und sorgen dafür, dass nicht bei jeder Entnahme eines Objekts aus den Collections ein Casting erforderlich wi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Annotations“, ermöglicht deklarative Programmieru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Kein Schreiben von wiederkehrenden Informationen mehr erforderlich </a:t>
            </a:r>
            <a:r>
              <a:rPr b="0" lang="de-A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 wird von Tools erledig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2SE 1.5 New Features 2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 Spracherweiterunge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Static Import</a:t>
            </a:r>
            <a:r>
              <a:rPr b="1" lang="de-A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Bei Verwendung von statischen Member-Variablen anderer Klassen müssen keine Klassennamen mehr benutzt werden. Dadurch wird der Code übersichtli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Typesafe En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Liefern alle Vorteile des Typesafe enum-Patte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Varar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Variable Argumentlisten bei Methoden Dekla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Variable Argumentlisten brauchen nicht mehr in Arrays oder Collections gespeichert werden um sie einer Methode zu übergeb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2SE 1.5 New Features 3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 Spracherweiterunge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Network</a:t>
            </a:r>
            <a:r>
              <a:rPr b="1" lang="de-A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Timeout (Protocoll Handler), InetAddress ping, Framework für File C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Internationalis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Unicode 4.0, Vietnam Lo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Formatter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(java.ut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Interpreter Klasse für printf-Style Format St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String s = String.format("Duke's Birthday: %1$tm 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                            %1$te,%1$tY", calendar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-&gt; s == "Duke's Birthday: May 23, 1995</a:t>
            </a: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"</a:t>
            </a:r>
            <a:r>
              <a:rPr b="0" lang="de-A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2SE 1.5 New Features 4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Core Libraries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Scanner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(java.ut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Konvertiert Text in Primitives oder St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3 neue Interfaces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(Queue, BlockingQueue, ConcurrentMa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inige neue Algorith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Monitoring, Managment, Instrument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Concurrency Ut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Bit Manipulation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http://java.sun.com/j2se/1.5.0/docs/relnotes/features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5223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J2SE 1.5 New Features 5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Core Libraries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13:17:21Z</dcterms:created>
  <dc:creator>Sommer</dc:creator>
  <dc:description/>
  <dc:language>en-US</dc:language>
  <cp:lastModifiedBy>Tiscover</cp:lastModifiedBy>
  <dcterms:modified xsi:type="dcterms:W3CDTF">2006-11-02T21:57:29Z</dcterms:modified>
  <cp:revision>184</cp:revision>
  <dc:subject/>
  <dc:title>Praktikum aus Softwareentwicklung 2</dc:title>
</cp:coreProperties>
</file>