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3244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84720" y="6392880"/>
            <a:ext cx="258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Netzwerp. - </a:t>
            </a:r>
            <a:fld id="{340836CB-E212-4401-A68B-845AED86E8D1}" type="slidenum"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Verdana"/>
              </a:rPr>
              <a:t>Netzwerkprogrammierung &amp; Thre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ckets sind die Schnittstelle zwischen Anwendung und Netzwerkverb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ost:Por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Zur Identifizierung der Anwen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"Server"-Anwendung wartet auf einem vereinbarten Port auf Verbindungsaufnahmen durch Client-Anwen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352680"/>
            <a:ext cx="2103480" cy="157176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381480"/>
            <a:ext cx="2111400" cy="155736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3381480"/>
            <a:ext cx="1957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1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9.254.235.2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187880"/>
            <a:ext cx="89208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3434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66960" y="4181400"/>
            <a:ext cx="86040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6920" y="4140360"/>
            <a:ext cx="76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6480" y="4172040"/>
            <a:ext cx="105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Http-</a:t>
            </a:r>
            <a:br>
              <a:rPr sz="1800"/>
            </a:b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5812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DP: Pake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CP: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429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2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9.254.235.2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DP – paketorienti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austausch basiert auf Paketen (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Datagramm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repräsentiert Datenpa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ket zum Send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gramPacket(byte[] buf, int length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Host&gt;, &lt;Port&gt;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ket zum Empfang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gramPacket(byte[] b, int 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gramSocke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zum Senden und Empfang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void send(DatagramPacket d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void receive(DatagramPacket 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UDP Tim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tt 1: Initialisierung</a:t>
            </a:r>
            <a:br>
              <a:rPr sz="2400"/>
            </a:b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io.*;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class TimeClientUDP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static void main (String[] args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throws IOException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if (args.length != 1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System.out.println("Usage: java TimeClUDP hostname"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System.exit(1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get a datagram socket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DatagramSocket socket =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new DatagramSocke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UDP Tim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2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tt 2: Request schicken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send reques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args[0] is the host nam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yte[] buf = new byte[256]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etAddress address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etAddress.getByName(args[0]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atagramPacket packet =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 DatagramPacket(buf, buf.length, address, 8889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cket.send(packet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UDP Tim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3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tt 3: Response empfangen</a:t>
            </a:r>
            <a:br>
              <a:rPr sz="24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get respons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acket = new DatagramPacket(buf, buf.length);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cket.receive(packet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display respons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received = new String(packet.getData()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Time received: " + received)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ocket.close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UDP Tim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rv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tt 1: UDP Socket erzeugen und auf Request warten</a:t>
            </a:r>
            <a:br>
              <a:rPr sz="24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mports, public class TimeServerUDP …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n main(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atagramSocket socket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 DatagramSocket(8889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byte[] buf = new byte[80]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receive reques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atagramPacket packet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 DatagramPacket(buf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buf.length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cket.receive(packet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System.out.println("Time request received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UDP Tim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rv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ritt 2: Response zurückschicken</a:t>
            </a:r>
            <a:br>
              <a:rPr sz="2000"/>
            </a:br>
            <a:br>
              <a:rPr sz="16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construct date of time stri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 timeofday = new Date().toString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 = timeofday.getBytes();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end the response bac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acket.setData(buf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ocket.send(packe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/* InetAddress address = packet.getAddres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 port = packet.getPor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acket = new DatagramPacket(buf,buf.length,address,por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ocket.send(packet); */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ystem.out.println("Time response sent.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 catch (IOException e) { …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exception handlin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ocket.clos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048120"/>
            <a:ext cx="2590920" cy="685800"/>
          </a:xfrm>
          <a:prstGeom prst="wedgeRoundRectCallout">
            <a:avLst>
              <a:gd name="adj1" fmla="val -122550"/>
              <a:gd name="adj2" fmla="val 60416"/>
              <a:gd name="adj3" fmla="val 16667"/>
            </a:avLst>
          </a:prstGeom>
          <a:solidFill>
            <a:srgbClr val="99ff66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acket kennt den Abs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CP – verbindungsorienti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mmunikation erfolgt bidirektional über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cket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Hos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Portnumm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plementierung des Datenaustausches mit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ient stellt Verbindung her durch Instanziierung eine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bjek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rver ist implementiert durch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rverSocke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artet auf einer bestimmten Portnummer auf Anfragen: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ublic Socket accept(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bindungsabbruch durch Schließen des Soc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bindungsaufba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i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new Socket(&lt;Host&gt;,&lt;Port&gt;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InputStrea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i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s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InputStream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OutputStrea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s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OutputStream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rver (gestartet auf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&lt;Host&gt;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erverSocket 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new ServerSocket(&lt;Port&gt;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ss.accept();  // blockiere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InputStrea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rom_so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s.getInputStream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OutputStrea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o_si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= s.getOutputStrea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bjekt repräsentiert die Verb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TCP Time 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0360" y="1989000"/>
            <a:ext cx="868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imeClien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(String args[]) throws IOException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Socket serve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 Socket("localhost",1234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System.out.println("Connected to " +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server.getInetAddress(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DataInputStream in = new DataInputStream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new BufferedInputStream(server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etInputStream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System.out.println("Server said: "+ in.readUTF(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server.clos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&amp; Threa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RL, URLConnection, UDP, TC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llele Programme, Synchronisation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TCP Time 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2160" y="1989000"/>
            <a:ext cx="7998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in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rverSocket serve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 ServerSocket(1234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System.out.println("Waiting for client...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Socket client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erver.accept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System.out.println("Client from “ +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client.getInetAddress() + " connected.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DataOutputStream out = new DataOutputStream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new BufferedOutputStream(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ient.getOutputStream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Date date = new Dat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System.out.println(date.toString(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ut.writeUTF(date.toString()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ut.flush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ient.close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esen vom InputStream, schreiben auf den 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tokol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uss vereinbart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dierung der D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ordination der Aktivitäten (Kontrollflu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spiel: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imple Mail Transfer Protocol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RFC-82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eilenweiser Austausch von Kommandos und Statusantw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lient sendet Kommando an den SMTP-Serv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(z.B. "MAIL FROM:&lt;somebody@somewhere.com&gt;\r\n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rver antwortet mit Status-Co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(z.B. "250 OK\r\n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sourc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133720"/>
            <a:ext cx="84582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tworking Tutorial: http://java.sun.com/docs/books/tutorial/network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ava Newsletters: http://java.sun.com/community/newsletter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ava Network Programming FAQ: http://www.davidreilly.com/java/java_network_programm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tworking with Java: http://www.javacoffeebreak.com/java109/java1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ava Buch-DE: http://www.javabuch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e der 3. Üb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48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48280" y="2762280"/>
            <a:ext cx="3200400" cy="27432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762280"/>
            <a:ext cx="3200400" cy="27432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undlagen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mmunikation zwischen verteilten Program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6496200" y="4591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8480" y="451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0760" y="4438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7760" y="3295800"/>
            <a:ext cx="22100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elle Mas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90680" y="3448080"/>
            <a:ext cx="22860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elle Mas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2600" y="5886360"/>
            <a:ext cx="8305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4591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7120" y="58863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5480" y="3371760"/>
            <a:ext cx="2209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elle Mas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3680" y="5353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48480" y="5353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3200" y="3448080"/>
            <a:ext cx="2209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VM, Web Server, Datenbank, Ftp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2160" y="4971960"/>
            <a:ext cx="32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zwerk-Betriebs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16960" y="4971960"/>
            <a:ext cx="32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zwerk-Betriebs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undlagen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 OSI Referenzmodell, Internet-Protokolle und 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49200" y="2768760"/>
            <a:ext cx="2514240" cy="3124080"/>
            <a:chOff x="349200" y="2768760"/>
            <a:chExt cx="2514240" cy="3124080"/>
          </a:xfrm>
        </p:grpSpPr>
        <p:sp>
          <p:nvSpPr>
            <p:cNvPr id="74" name=""/>
            <p:cNvSpPr/>
            <p:nvPr/>
          </p:nvSpPr>
          <p:spPr>
            <a:xfrm>
              <a:off x="349200" y="3225960"/>
              <a:ext cx="2514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00" y="3606840"/>
              <a:ext cx="2514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9200" y="3987720"/>
              <a:ext cx="2514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00" y="4368960"/>
              <a:ext cx="2514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00" y="4749840"/>
              <a:ext cx="2514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0" y="5130720"/>
              <a:ext cx="2514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00" y="5511960"/>
              <a:ext cx="2514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9200" y="2768760"/>
              <a:ext cx="2514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SI 7 Schich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21000" y="3225960"/>
            <a:ext cx="2514600" cy="11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, ftp, telnet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1000" y="436896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21000" y="474984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21000" y="5130720"/>
            <a:ext cx="2514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hernet, Token Ring, FDDI,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21000" y="276876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92800" y="322596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92800" y="360684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2800" y="436896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92800" y="474984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et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2800" y="276876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av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343400"/>
            <a:ext cx="2590560" cy="838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343400"/>
            <a:ext cx="2590560" cy="838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1200">
            <a:off x="2285640" y="5409720"/>
            <a:ext cx="1222200" cy="762120"/>
          </a:xfrm>
          <a:prstGeom prst="wedgeRoundRectCallout">
            <a:avLst>
              <a:gd name="adj1" fmla="val -31787"/>
              <a:gd name="adj2" fmla="val 73967"/>
              <a:gd name="adj3" fmla="val 16667"/>
            </a:avLst>
          </a:prstGeom>
          <a:solidFill>
            <a:srgbClr val="99ff66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CP/IP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7016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1200">
            <a:off x="6090840" y="5410080"/>
            <a:ext cx="1752480" cy="1293840"/>
          </a:xfrm>
          <a:prstGeom prst="wedgeRoundRectCallout">
            <a:avLst>
              <a:gd name="adj1" fmla="val 40606"/>
              <a:gd name="adj2" fmla="val 66546"/>
              <a:gd name="adj3" fmla="val 16667"/>
            </a:avLst>
          </a:prstGeom>
          <a:solidFill>
            <a:srgbClr val="99ff66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ck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ava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javax.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javax.net.s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 und UR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ypertext Transfer Protocol (HTTP/1.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iform Resource Locator 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URL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rotocol :// host [:port] /filepath [ref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ezifikation siehe w3.or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ttp://www.w3.org/Addressing/URL/url-spec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http://www.somewhere.com:80/remoteSurvey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https://secure.tiscover.com: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tp://www.nowher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ile://D:/tmp/bsp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ailto://alexander.sommer@tiscov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wendung von UR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Objekt der Klass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repräsentiert eine Ressource im Internet (z.B. HTML Dokumente, CGI Programme, ...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URL u = new URL("http://java.sun.com/index.html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 catch(MalformedURLException e) { … 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// URL(String protocol, String host, int port, String fi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rsen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.getProtocol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.getHost(); // ... (File, Port, R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rektes Lesen von einer URL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InputStream in = u.openStrea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RLConn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bindung wird durch ei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URLConnec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bjekt repräsentiert und bei dessen Instanziierung aufgebaut. Generell ist das Erzeugen einer Connection zu einem Url ein mehrstufiger Prozess.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RLConnection uc = u.openConnection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.connec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austausch erfolgt über Streams der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URLConnectio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InputStream ui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u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.getInputStream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OutputStream uo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u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.getOutputStrea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ttpURLConnec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HttpURLConnection http_uc = (HttpURLConnection)uc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c.getRequestMethod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uc.getResponseMessag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: "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t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47120" y="21225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ystem.setProperty("mail.host", „smtp.tiscover.com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RL u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 URL("mailto:alexander.sommer@tiscover.com"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RLConnection conn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u.openConnection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rintWriter out = new Print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 OutputStreamWriter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onn.getOutputStream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.println("Subject: Test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CP/IP, UD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net Protocol (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outing der IP-Pakete (versehen mit Empfänger, Sen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port Control Protocol (TC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bindung über gemeinsamen Kommunikationska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ückelt Nachricht in mehrere durchnummerierte Pak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prüft ob Paket Ziel erreicht hat, ansonsten Wiederho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mpfänger setzt Pakete in richtiger Reihenfolge wieder zusam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iform Datagram Protocol (U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eine ständige Verbindung - zustandsl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edes Paket wird einzeln gesend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ket kann verloren gehen, keine Kontro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Multicas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st mögli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>Mojca Kalan-Kimmerstorfer</dc:creator>
  <dc:description/>
  <dc:language>en-US</dc:language>
  <cp:lastModifiedBy>Tiscover</cp:lastModifiedBy>
  <dcterms:modified xsi:type="dcterms:W3CDTF">2005-11-07T09:12:35Z</dcterms:modified>
  <cp:revision>122</cp:revision>
  <dc:subject/>
  <dc:title>Basel II</dc:title>
</cp:coreProperties>
</file>