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435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972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848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240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848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240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560" y="1066680"/>
            <a:ext cx="8621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972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468760" y="0"/>
            <a:ext cx="3598920" cy="932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09520" y="596880"/>
            <a:ext cx="2730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22860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468760" y="0"/>
            <a:ext cx="3598920" cy="9320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09520" y="596880"/>
            <a:ext cx="2730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22860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80880" y="632448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bteilung für Bioinformatik, JKU Li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084720" y="6392880"/>
            <a:ext cx="2584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JDBC - </a:t>
            </a:r>
            <a:fld id="{4CA5FB99-6E2A-4A0D-96A2-A49771016493}" type="slidenum">
              <a:rPr b="1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Datenbankzugriff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mit JDB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Essentielle Klassen und Interfa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JDBC-Treiber Laden und Registr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java.sql.DriverManager, javax.sql.Data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Datenbankverbind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java.sql.Conn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Ausführen von SQL Anweisung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java.sql.Statement, java.sql.PreparedStat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Zugriff auf Ergebnisse einer SQL Abfr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java.sql.ResultS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746440" y="838080"/>
            <a:ext cx="5675400" cy="5791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3124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Beziehungen und Interaktionen der wichtigsten Klassen des Paketes: java.sql.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bindung zur DB herste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aden eines passenden DB Treib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xplizites Laden durch die Applikation (z.B. 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Oracle Thin Drive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.forName("oracle.jdbc.driver.OracleDriver"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 Driver Interfac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atic {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java.sql.DriverManager.registerDriver(new OracleDriver()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ataSource ist speziell bei Applikationsserver zu bevorzu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indung herstel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onnection con =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DriverManager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getConnection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(connectURL </a:t>
            </a:r>
            <a:r>
              <a:rPr b="0" i="1" lang="de-DE" sz="1600" spc="-1" strike="noStrike">
                <a:solidFill>
                  <a:srgbClr val="000000"/>
                </a:solidFill>
                <a:latin typeface="Courier New"/>
              </a:rPr>
              <a:t>[, &lt;username&gt;, &lt;password&gt;]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atenbank-URL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jdbc:</a:t>
            </a:r>
            <a:r>
              <a:rPr b="0" i="1" lang="de-DE" sz="1800" spc="-1" strike="noStrike">
                <a:solidFill>
                  <a:srgbClr val="000000"/>
                </a:solidFill>
                <a:latin typeface="Courier New"/>
              </a:rPr>
              <a:t>subprotocol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i="1" lang="de-DE" sz="1800" spc="-1" strike="noStrike">
                <a:solidFill>
                  <a:srgbClr val="000000"/>
                </a:solidFill>
                <a:latin typeface="Courier New"/>
              </a:rPr>
              <a:t>detai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Oracle Thin Treiber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"jdbc:oracle:thin:@borneo.hgb.tiscover.at:1521:borneo"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M.MySQL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"jdbc:mysql://localhost:3306/test"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sp: LVA-Anmelde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5520" y="36446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(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matrNr INTEGER PRIMARY KEY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vorname VARCHAR(30)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nachname VARCHAR(30)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19040" y="1943280"/>
            <a:ext cx="2133360" cy="1281240"/>
            <a:chOff x="419040" y="1943280"/>
            <a:chExt cx="2133360" cy="1281240"/>
          </a:xfrm>
        </p:grpSpPr>
        <p:sp>
          <p:nvSpPr>
            <p:cNvPr id="206" name=""/>
            <p:cNvSpPr/>
            <p:nvPr/>
          </p:nvSpPr>
          <p:spPr>
            <a:xfrm>
              <a:off x="419040" y="1943280"/>
              <a:ext cx="2133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9040" y="2400480"/>
              <a:ext cx="2133360" cy="82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ourier New"/>
                </a:rPr>
                <a:t>matrNr:int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Courier New"/>
                </a:rPr>
                <a:t>vorname:String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Courier New"/>
                </a:rPr>
                <a:t>nachname: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134040" y="1854360"/>
            <a:ext cx="2666880" cy="1524600"/>
            <a:chOff x="6134040" y="1854360"/>
            <a:chExt cx="2666880" cy="1524600"/>
          </a:xfrm>
        </p:grpSpPr>
        <p:sp>
          <p:nvSpPr>
            <p:cNvPr id="209" name=""/>
            <p:cNvSpPr/>
            <p:nvPr/>
          </p:nvSpPr>
          <p:spPr>
            <a:xfrm>
              <a:off x="6134040" y="1854360"/>
              <a:ext cx="26668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L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34040" y="2311560"/>
              <a:ext cx="2666880" cy="106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ourier New"/>
                </a:rPr>
                <a:t>lvaNr:int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Courier New"/>
                </a:rPr>
                <a:t>name:String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Courier New"/>
                </a:rPr>
                <a:t>leiter:String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Courier New"/>
                </a:rPr>
                <a:t>beschreibung:UR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538360" y="2387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14720" y="2401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52760" y="269244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19200" y="23893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t angemeldet -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3639960"/>
            <a:ext cx="417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VA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(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lvaNr INTEGER PRIMARY KEY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name VARCHAR(80)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leiter VARCHAR(30)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beschreibung VARCHAR(8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5013360"/>
            <a:ext cx="8991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Anmeldung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(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matrNr INTEGER CONSTRAINT Fk_Anmeldung_Student REFERENCES Student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lvaNr INTEGER CONSTRAINT Fk_Anmeldung_LVA REFERENCES L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Stat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QL-Query als String formulieren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//Alle Anmeldungen zum PK SWE2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tringBuffer buf = new StringBuffer(512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buf.append("SELECT s.nachname, s.vorname, 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buf.append("s.matrNr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buf.append(" FROM Student s, Anmeldung a 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buf.append(" WHERE a.lvaNr=350235 AND a.matrNr=s.matrNr 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buf.append(" ORDERED BY s.nachname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tatement erzeug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tatement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tmt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con.createStatement(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Query absetz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ResultSet rs =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mt.executeQuery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(buf.toString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 Statement kann nur ein ResultSet gleichzeitig geöffnet se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ResultS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ultSet ist ei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terato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über die Ergebnis-Zeilen (Rows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ugriff auf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Feld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r aktuellen Zeile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0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public String getXXX(columnIndex); // Index beginnt bei 1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public String getXXX(columnNam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XXX … String, Date, Int, Boolean, 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,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QL-Typen werden automatisch konvertier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ULL-Werte liefert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ür Objekttypen, aber die Zahl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bzw.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ür primitive Datentypen;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wasNull(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prüft, ob das gelesene Feld NULL w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sp: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lle Zeilen des ResultSet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esen:</a:t>
            </a:r>
            <a:br>
              <a:rPr sz="20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while(rs.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next()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String nachname = rs.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getString(1)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String vorname = rs.getString(2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int matrNr = rs.getInt(3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rs.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close()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bildung von Datentyp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55640" y="2359080"/>
          <a:ext cx="7554960" cy="37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59080"/>
                    <a:ext cx="75549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a-Daten (1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sultSetMetaDat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Daten über das Ergebnis einer Abfr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ResultSetMetaData metaData =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rs.getMetaData(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olumnCount = metaData.getColumnCou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tring cn = metaData.getColumnName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 ct = metaData.getColumnType(i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//see java.sql.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 ds = metaData.getColumnDisplaySize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a-Daten (2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atabaseMetaDat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umfangreiche Methoden, um Details wie Schema, Zugriffsrechte, usw. eines DBMS abfragen zu könn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DatabaseMetaData dbmd = con.getMetaData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ResultSet rset = dbmd.getCatalog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 mv = dbmd.getDriverMajorVersio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, UPDATE, etc. (1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eben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werden auch andere Anweisungen unterstützt (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INSERT, UPDAT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ethode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int executeUpdate(String statement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anstelle von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executeQuery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 Als Ergebniswert wird die Anzahl der betroffenen Tupel zurückgegeb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9000"/>
            <a:ext cx="9144000" cy="9064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enbankzugriff mit JDB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JDB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rundlagen, DriverManager, Connection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SQLD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stallation und Anwe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, UPDATE, etc. (2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ür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liebige SQL-Anweisunge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(z.B. von Benutzereingabe) ist die Art des Ergebnisses nicht im vorhinein bekan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ethode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boolean execute(String statement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liefe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tru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falls das Ergebnis ein ResultSet is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ResultSet getResultSet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ons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int getUpdateCount(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liefert die Anzahl der betroffenen Tupel, oder -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repared Stat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591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blem: Anweisungen (Statements) werden immer wieder neu übersetzt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repared Statement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als effizientere Alternative.</a:t>
            </a:r>
            <a:br>
              <a:rPr sz="2400"/>
            </a:b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tring insStr = "INSERT INTO STUDENT VALUES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?, ?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)";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repared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tatement updateStm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updateStmt = con.prepareStatement(insStr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updateStmt.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etIn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, 9455123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updateStmt.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etString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, "Helge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//für NULL-Wert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updateStmt.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etNull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, java.sql.Types.VARCHAR)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nt i = updateStmt.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xecuteUpdate(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aktionssteuer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Über die Methode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ommit(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und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rollback(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s Interfaces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java.sql.Connectio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itere Methoden: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getAutoCommit(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und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etAutoCommit(boolean b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uto-commi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bedeutet, dass nach jeder Anweisung automatisch ein commit erfolgt (= defaul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schiedene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Transaktionsmodi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 mode = con.getTransactionIsolation(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read uncommitted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: erlaubt Zugriff auf noch nicht geschrieben Dat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read committed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: nur lesen geschriebener Da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repeatable reads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: Phantomproblem kann auftre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serializabl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: höchste Stufe, volle Transaktionsunterstütz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xception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62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lasse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QL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ann von den meisten JDBC-Methoden geworfen we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getMessage(), getSQLState(), getErrorCode(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QLException getNextException(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lasse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QLWarning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spez. DataTrunc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onnection, Statement, ResultSet verwalten eine Liste von Warn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getWarnings(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und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getNextWarning(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bzw.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learWarning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ombination mit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Transaktionssteuer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ollback im catch-Block einer Transaktion; ggf. Wiederhol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tatemen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und/oder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Connectio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MÜSSEN im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geschlossen werde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sp: Kapselung der DB-Zugriffe (1/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nnung von JDBC-Code und Anwend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pselung der Datenbank-Daten in speziellen Kl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pselung aller Abfragen/Transaktionen in je einer Meth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463680" y="3048120"/>
            <a:ext cx="82515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interface DB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LVA getLVA(int lvaN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List getLVAsOrderByNam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void addLVA(LVA newLva) throws DuplicateEntity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void removeLVA(int lvaNr) throws NoSuchEntity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void updateLVA(int lvaNr, LVA lvaData) throw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NoSuchEntityException, DuplicateEntity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List getRegisteredStudents(int lvaNr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throws NoSuchEntity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void addStudentRegistration(int lvaNr, int matrNr) throw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NoSuchEntityException, DuplicateEntity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sp: Kapselung der DB-Zugriffe (2/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1984320"/>
            <a:ext cx="83455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import java.sql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ublic class MySQL_DB implements DB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rotected String driverName="org.gjt.mm.mysql.Driver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rotected String connectURL="jdbc:mysql://localhost:3306/test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rotected Connection c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ublic MySQL_DB() throws DBException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Class.forName(driver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con = DriverManager.getConnection(connectUR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 catch (ClassNotFoundException e) {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 catch (SQLException e) { ... }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} finall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if (con != null) {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con.clo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91440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sp: Kapselung der DB-Zugriffe (3/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rotected synchronised List queryLVAs(String lvaQuery) throws DB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ArrayList result = new ArrayList(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Statement stmt = null; ResultSet rs = nul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tmt = con.createStateme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s = stmt.executeQuery(lvaQuery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hile(rs.next()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LVA lva = new LVA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lva.setNr(rs.getInt(1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lva.setName(rs.getString(2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lva.setLeiter(rs.getString(3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lva.setBeschreibung(rs.getString(4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esult.add(lva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s.clos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 catch (SQLException e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hrow new DBException(e.getMessage(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if (stmt != null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y { stmt.close() } catch SQLException() { /* nothing to do */ 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ublic LVA getLVA(int lvaNr) throws DB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List l = queryLVAs("SELECT * FROM LVA WHERE lvaNr = " + lvaNr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if(l.size()!=1) throw new NoSuchEntityException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eturn (LVA)l.get(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ublic List getLVAsOrderByName() throws DB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eturn queryLVAs("SELECT * FROM LVA ORDER BY name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ynchronized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void removeLVA(int lvaNr) throws DBExceptio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tatement stmt = nul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tmt = con.createStatemen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int count=stmt.executeUpdate("DELETE FROM LVA WHERE lvaNr = " + lvaNr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if(count != 1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hrow new NoSuchEntityException("Delete failed: "+count+" LVAs deleted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 catch (SQLException e) { throw new DBException(e.getMessage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... // close stm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...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99072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sp: Kapselung der DB-Zugriffe (4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DBC 2.0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atch-Updates (1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atch-Updates sind eine Sammlung von Updates, die auf einmal an die Datenbank gesendet wer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JDBC 1.0 wurde durch z.B.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executeUpdate(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von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tatemen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PreparedStatemen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usw. jeweils eine Anweisung direkt abgearbeit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JDBC 2.0 sind diese Interfaces durch eine Liste von Kommandos, die auf einmal durchzuführen sind, erweitert wor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DBC 2.0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atch-Updates (2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ispiel: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con.setAutoCommit(false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tatement stmt = con.createStatement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tmt.addBatch("INSERT INTO COFFEES " +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"VALUES('Amaretto', 49, 9.99, 0, 0)")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tmt.addBatch("INSERT INTO COFFEES " +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"VALUES('Hazelnut', 49, 9.99, 0, 0)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nt [] updateCounts = stmt.executeBatch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atch-Update Exceptions:</a:t>
            </a:r>
            <a:br>
              <a:rPr sz="20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… catch(BatchUpdateException b) { …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int [] updateCounts = b.getUpdateCounts(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for (int i = 0; i &lt; updateCounts.length; i++) {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System.err.print(updateCounts[i] + " "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}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inleitung (1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all Level Interface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u relationalen Datenbank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vgl. ODBC), Programmtechnischer Zug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Übermittlung vo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d-hoc SQL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Statement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SQL als Data Sublanguag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atendefinition, Manipulation, Abf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ult Sets zur Verarbeitung von Abfrageergeb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ackag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java.sql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finiert die Standard-Schnittste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JDBC 3.0 … inkludiert in J2SDK 1.4 und J2EE 1.4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javax.sql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eue Features seit JDBC 2.0 Optional Pack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stütz die wichtigsten Features von SQL9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erstellerunabhängiger Zugang zu den gemeinsamen 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DBC 2.0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ResultSet Erweiterung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crollbare Result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ursor in einem ResultSet kann nach vor und zurück bewegt wer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unktionalität muss extra eingeschaltet wer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Änderungen direkt auf Result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pdating a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leteing a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serting a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 2.0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QL3 Datentyp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ind neue Datentypen im ANSI/ISO SQL Stand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JDBC 2.0 bietet Mappings in 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QL3 Datentyp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lob (</a:t>
            </a:r>
            <a:r>
              <a:rPr b="0" i="1" lang="de-DE" sz="2400" spc="-1" strike="noStrike">
                <a:solidFill>
                  <a:srgbClr val="000000"/>
                </a:solidFill>
                <a:latin typeface="Verdana"/>
              </a:rPr>
              <a:t>Binary Large Objec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lob (</a:t>
            </a:r>
            <a:r>
              <a:rPr b="0" i="1" lang="de-DE" sz="2400" spc="-1" strike="noStrike">
                <a:solidFill>
                  <a:srgbClr val="000000"/>
                </a:solidFill>
                <a:latin typeface="Verdana"/>
              </a:rPr>
              <a:t>Character Large Objec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getBlob(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etBlob(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updateBlob(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to für Clob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 3.0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uerungen in JDBC 3.0 (1/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Änderungen in der Metadata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Änderungen an den Datentypen (z.B. neuer Datentyp java.sql.Types.BOOLEA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swerten von automatisch generierten Key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819720" y="3789360"/>
            <a:ext cx="6154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tatement stmt = conn.createStateme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// Obtain the generated key that results from the que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tmt.executeUpdate("INSERT INTO authors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"(first_name, last_name)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"VALUES ('George', 'Orwell')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tatement.RETURN_GENERATED_KEYS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esultSet rs = stmt.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etGeneratedKeys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if ( rs.next()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// Retrieve the auto generated key(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int key = rs.getIn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 3.0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uerungen in JDBC 3.0 (2/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3707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nection poo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epared Statement poo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avepoints in Transaktio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828720" y="3743280"/>
            <a:ext cx="66009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 3.0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uerungen in JDBC 3.0 (3/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3707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788400" y="2492280"/>
            <a:ext cx="72216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conn.setAutoCommit(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// Set a conservative transaction isolation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conn.setTransactionIsolation(Connection.TRANSACTION_SERIALIZABL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tatement stmt = conn.createStateme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int rows = stmt.executeUpdate("INSERT INTO authors "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"(first_name, last_name) VALUES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"('Lewis', 'Carroll')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// Set a named savepoi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avepoint svpt = conn.setSavepoint("NewAutho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ows = stmt.executeUpdate("UPDATE authors set type = 'fiction'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"WHERE last_name = 'Carroll'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conn.rollback(svp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// The author has been added, but not upd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conn.commi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3048120"/>
            <a:ext cx="9144000" cy="10666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enbankzugriff mit JDB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JDB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Grundlagen, DriverManager, Connection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HSQLD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nstallation und Anwend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SQLDB 1.7.1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inleitung &amp; Instal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00%-ige Open Source Java-Datenban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JDBC-Treiber, der ca. 95% des Standards implementi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fügbar unter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http://hsqldb.sourceforge.ne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stall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erunterladen von hsqldb (ca. 1,3 MB) und Entpacken des ZIP-File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.B. in c:\hsqld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inzufügen der Datei c:\hsqldb\lib\hsqldb.jar zum CLASSPA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tarten des Standalone-Servers mit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:\ java org.hsqldb.Server –database mydb</a:t>
            </a:r>
            <a:br>
              <a:rPr sz="2000"/>
            </a:br>
            <a:r>
              <a:rPr b="0" i="1" lang="de-DE" sz="1600" spc="-1" strike="noStrike">
                <a:solidFill>
                  <a:srgbClr val="000000"/>
                </a:solidFill>
                <a:latin typeface="Verdana"/>
              </a:rPr>
              <a:t>(notwendigen Dateien werden im aktuellen Verzeichnis abgeleg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SQLDB 1.7.1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bindung herste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ame des JDBC-Treibers ist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org.hsqldb.jdbcDriver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Class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Nam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( "org.hsqldb.jdbcDriver" 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System.out.println("ERROR: failed to load " +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"HSQLDB JDBC driver."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e.printStackTrace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return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onnection c = DriverManager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getConnection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"jdbc:hsqldb:hsql://localhost", "sa", ""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SQLDB 1.7.1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ktische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5070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rg.hsqldb.util.Database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rg.hsqldb.util.DatabaseManagerSw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rg.hsqldb.util.Transf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rg.hsqldb.util.Query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rg.hsqldb.util.ScriptTool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etails hierzu + weiter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formationen können de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oku und der WebSi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ntnommen we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2063520" cy="2087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724280" y="3657600"/>
            <a:ext cx="38116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de der 4. Übu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61880" y="2754360"/>
            <a:ext cx="81406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inleitung (2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plementierung durch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atenbankspezifische Treiber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java.sun.com/products/jdbc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java.sun.com/j2se/1.4/docs/api/java/sql/packagesummary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reiber werden vom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DriverManag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verwalt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B-spezifisches Statement-Ende notwendi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z.B. ";" in Orac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icht alle Treiber unterstützen ganze JDBC – Spezifik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hr oft besitzen JDBC-Treiber datenbankspezifische Erweiterungen, welche nicht Teil der JDBC – Spezifikation si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ibertyp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Typ 1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JDBC Api ist ein Mapping zu einem anderen Api, wie zum Beispiel ODB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JDBC-ODBC Bridge wird von Sun mitgeliefe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fordert client-seitige Installation des ODBC Treibers (native Cod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Typ 2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Native-API partly-Java drivers,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ative Library und Java C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fordert client-seitige Installation eines DB-spezifischen Treib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.B. Oracle OCI Driver (basiert auf SQL*Ne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Typ 3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Pure Java Treiber der mit einem Middleware Server kommunizie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iddleware-Server vermittelt auf verschiedene DB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.B. DataDirect (Mera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Type 4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Native-protocol all-Java driv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ut DB-Client/Server-Protokoll via Java TCP/IP Sockets (Package java.net) na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.B. Oracle Thin Driver (simuliert SQL*Ne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Reines Ja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 1: JDBC/ODBC 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652320" y="2197080"/>
            <a:ext cx="3910320" cy="3773520"/>
          </a:xfrm>
          <a:prstGeom prst="cube">
            <a:avLst>
              <a:gd name="adj" fmla="val 837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2668680"/>
            <a:ext cx="2109960" cy="138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21160" y="2463840"/>
            <a:ext cx="7048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1280" y="4630680"/>
            <a:ext cx="1592280" cy="944640"/>
          </a:xfrm>
          <a:prstGeom prst="cube">
            <a:avLst>
              <a:gd name="adj" fmla="val 837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57960" y="4970520"/>
            <a:ext cx="11314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B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71520" y="2727360"/>
            <a:ext cx="2019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p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6480" y="2754360"/>
            <a:ext cx="565200" cy="7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5040" y="2916360"/>
            <a:ext cx="566640" cy="7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29760" y="3135240"/>
            <a:ext cx="2017440" cy="308160"/>
            <a:chOff x="1229760" y="3135240"/>
            <a:chExt cx="2017440" cy="308160"/>
          </a:xfrm>
        </p:grpSpPr>
        <p:sp>
          <p:nvSpPr>
            <p:cNvPr id="69" name=""/>
            <p:cNvSpPr/>
            <p:nvPr/>
          </p:nvSpPr>
          <p:spPr>
            <a:xfrm>
              <a:off x="1279440" y="3135240"/>
              <a:ext cx="1967760" cy="3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29760" y="3152880"/>
              <a:ext cx="19270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JDBC_Driver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234800" y="3645000"/>
            <a:ext cx="2015640" cy="307800"/>
            <a:chOff x="1234800" y="3645000"/>
            <a:chExt cx="2015640" cy="307800"/>
          </a:xfrm>
        </p:grpSpPr>
        <p:sp>
          <p:nvSpPr>
            <p:cNvPr id="72" name=""/>
            <p:cNvSpPr/>
            <p:nvPr/>
          </p:nvSpPr>
          <p:spPr>
            <a:xfrm>
              <a:off x="1282680" y="3645000"/>
              <a:ext cx="1967760" cy="3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34800" y="3662280"/>
              <a:ext cx="17791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JDBC/ODBC Brid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905440" y="2200320"/>
            <a:ext cx="2559240" cy="1495440"/>
          </a:xfrm>
          <a:prstGeom prst="cube">
            <a:avLst>
              <a:gd name="adj" fmla="val 837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360" y="2379600"/>
            <a:ext cx="12672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eb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2400" y="3449520"/>
            <a:ext cx="0" cy="184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14400" y="4448160"/>
            <a:ext cx="2111400" cy="13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87480" y="4611600"/>
            <a:ext cx="2019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DBC 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river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35040" y="4684680"/>
            <a:ext cx="563760" cy="7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30360" y="4554360"/>
            <a:ext cx="565200" cy="7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888200" y="5043600"/>
            <a:ext cx="1410120" cy="307800"/>
            <a:chOff x="1888200" y="5043600"/>
            <a:chExt cx="1410120" cy="307800"/>
          </a:xfrm>
        </p:grpSpPr>
        <p:sp>
          <p:nvSpPr>
            <p:cNvPr id="82" name=""/>
            <p:cNvSpPr/>
            <p:nvPr/>
          </p:nvSpPr>
          <p:spPr>
            <a:xfrm>
              <a:off x="1925280" y="5043600"/>
              <a:ext cx="1373040" cy="3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88200" y="5060880"/>
              <a:ext cx="13233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DBC Drive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015640" y="5462640"/>
            <a:ext cx="1411560" cy="307800"/>
            <a:chOff x="2015640" y="5462640"/>
            <a:chExt cx="1411560" cy="307800"/>
          </a:xfrm>
        </p:grpSpPr>
        <p:sp>
          <p:nvSpPr>
            <p:cNvPr id="85" name=""/>
            <p:cNvSpPr/>
            <p:nvPr/>
          </p:nvSpPr>
          <p:spPr>
            <a:xfrm>
              <a:off x="2052000" y="5462640"/>
              <a:ext cx="1375200" cy="3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5640" y="5479920"/>
              <a:ext cx="13233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DBC Driver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049080" y="2871720"/>
            <a:ext cx="938880" cy="308160"/>
            <a:chOff x="6049080" y="2871720"/>
            <a:chExt cx="938880" cy="308160"/>
          </a:xfrm>
        </p:grpSpPr>
        <p:sp>
          <p:nvSpPr>
            <p:cNvPr id="88" name=""/>
            <p:cNvSpPr/>
            <p:nvPr/>
          </p:nvSpPr>
          <p:spPr>
            <a:xfrm>
              <a:off x="6075360" y="2871720"/>
              <a:ext cx="912600" cy="3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49080" y="2889360"/>
              <a:ext cx="790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Apple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7276320" y="3139920"/>
            <a:ext cx="940320" cy="308160"/>
            <a:chOff x="7276320" y="3139920"/>
            <a:chExt cx="940320" cy="308160"/>
          </a:xfrm>
        </p:grpSpPr>
        <p:sp>
          <p:nvSpPr>
            <p:cNvPr id="91" name=""/>
            <p:cNvSpPr/>
            <p:nvPr/>
          </p:nvSpPr>
          <p:spPr>
            <a:xfrm>
              <a:off x="7302960" y="3139920"/>
              <a:ext cx="913680" cy="3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76320" y="3157560"/>
              <a:ext cx="790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Apple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212920" y="3965400"/>
            <a:ext cx="17640" cy="10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92560" y="5182920"/>
            <a:ext cx="2157480" cy="6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282840" y="303516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75720" y="3035160"/>
            <a:ext cx="1603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&lt;download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 2: Plattformeigene JDBC-Trei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14520" y="2143080"/>
            <a:ext cx="7812000" cy="3844440"/>
            <a:chOff x="614520" y="2143080"/>
            <a:chExt cx="7812000" cy="3844440"/>
          </a:xfrm>
        </p:grpSpPr>
        <p:sp>
          <p:nvSpPr>
            <p:cNvPr id="99" name=""/>
            <p:cNvSpPr/>
            <p:nvPr/>
          </p:nvSpPr>
          <p:spPr>
            <a:xfrm>
              <a:off x="614520" y="2143080"/>
              <a:ext cx="3909960" cy="3620880"/>
            </a:xfrm>
            <a:prstGeom prst="cube">
              <a:avLst>
                <a:gd name="adj" fmla="val 837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49480" y="2614320"/>
              <a:ext cx="2373120" cy="138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83360" y="2409480"/>
              <a:ext cx="7048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64280" y="4279680"/>
              <a:ext cx="3093840" cy="1707840"/>
            </a:xfrm>
            <a:prstGeom prst="cube">
              <a:avLst>
                <a:gd name="adj" fmla="val 837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24760" y="4470120"/>
              <a:ext cx="11314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DB-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33720" y="2673000"/>
              <a:ext cx="2019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Appl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8320" y="2700000"/>
              <a:ext cx="565200" cy="7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6880" y="2828520"/>
              <a:ext cx="566640" cy="7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1296720" y="3070080"/>
              <a:ext cx="2017440" cy="307440"/>
              <a:chOff x="1296720" y="3070080"/>
              <a:chExt cx="2017440" cy="307440"/>
            </a:xfrm>
          </p:grpSpPr>
          <p:sp>
            <p:nvSpPr>
              <p:cNvPr id="108" name=""/>
              <p:cNvSpPr/>
              <p:nvPr/>
            </p:nvSpPr>
            <p:spPr>
              <a:xfrm>
                <a:off x="1346400" y="3070080"/>
                <a:ext cx="1967760" cy="307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96720" y="3087360"/>
                <a:ext cx="19270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JDBC_DriverManag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1191600" y="3590640"/>
              <a:ext cx="2250000" cy="307440"/>
              <a:chOff x="1191600" y="3590640"/>
              <a:chExt cx="2250000" cy="307440"/>
            </a:xfrm>
          </p:grpSpPr>
          <p:sp>
            <p:nvSpPr>
              <p:cNvPr id="111" name=""/>
              <p:cNvSpPr/>
              <p:nvPr/>
            </p:nvSpPr>
            <p:spPr>
              <a:xfrm>
                <a:off x="1250280" y="3590640"/>
                <a:ext cx="2191320" cy="307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191600" y="3607560"/>
                <a:ext cx="20322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Oracle OCI Java Driv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5867640" y="2145960"/>
              <a:ext cx="2558880" cy="1495080"/>
            </a:xfrm>
            <a:prstGeom prst="cube">
              <a:avLst>
                <a:gd name="adj" fmla="val 837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79160" y="2290320"/>
              <a:ext cx="12672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Web-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25960" y="339552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76600" y="4393800"/>
              <a:ext cx="1674720" cy="67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57480" y="4485960"/>
              <a:ext cx="1238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QL*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97240" y="4630320"/>
              <a:ext cx="563400" cy="7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90760" y="4503600"/>
              <a:ext cx="565200" cy="7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010920" y="2817360"/>
              <a:ext cx="938880" cy="307800"/>
              <a:chOff x="6010920" y="2817360"/>
              <a:chExt cx="938880" cy="307800"/>
            </a:xfrm>
          </p:grpSpPr>
          <p:sp>
            <p:nvSpPr>
              <p:cNvPr id="121" name=""/>
              <p:cNvSpPr/>
              <p:nvPr/>
            </p:nvSpPr>
            <p:spPr>
              <a:xfrm>
                <a:off x="6037200" y="2817360"/>
                <a:ext cx="912600" cy="307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010920" y="2834640"/>
                <a:ext cx="7902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Applet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238160" y="3085920"/>
              <a:ext cx="940320" cy="307440"/>
              <a:chOff x="7238160" y="3085920"/>
              <a:chExt cx="940320" cy="307440"/>
            </a:xfrm>
          </p:grpSpPr>
          <p:sp>
            <p:nvSpPr>
              <p:cNvPr id="124" name=""/>
              <p:cNvSpPr/>
              <p:nvPr/>
            </p:nvSpPr>
            <p:spPr>
              <a:xfrm>
                <a:off x="7264800" y="3085920"/>
                <a:ext cx="913680" cy="307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238160" y="3103200"/>
                <a:ext cx="7902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Applet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532160" y="3914640"/>
              <a:ext cx="0" cy="585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11800" y="4709880"/>
              <a:ext cx="84456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62480" y="5051160"/>
              <a:ext cx="2306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783400" y="4924080"/>
              <a:ext cx="1960200" cy="679320"/>
              <a:chOff x="5783400" y="4924080"/>
              <a:chExt cx="1960200" cy="679320"/>
            </a:xfrm>
          </p:grpSpPr>
          <p:sp>
            <p:nvSpPr>
              <p:cNvPr id="130" name=""/>
              <p:cNvSpPr/>
              <p:nvPr/>
            </p:nvSpPr>
            <p:spPr>
              <a:xfrm>
                <a:off x="6070320" y="4924080"/>
                <a:ext cx="1673280" cy="679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50480" y="5015880"/>
                <a:ext cx="123804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QL*NE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789880" y="5160600"/>
                <a:ext cx="564120" cy="7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83400" y="5033520"/>
                <a:ext cx="565560" cy="7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 flipH="1">
            <a:off x="3509640" y="2940120"/>
            <a:ext cx="2477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37560" y="2940120"/>
            <a:ext cx="1603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&lt;download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 3: Universelle JDBC-Trei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38120" y="2019240"/>
            <a:ext cx="3909960" cy="2641680"/>
          </a:xfrm>
          <a:prstGeom prst="cube">
            <a:avLst>
              <a:gd name="adj" fmla="val 837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47880" y="2674800"/>
            <a:ext cx="2423880" cy="14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6960" y="2286000"/>
            <a:ext cx="7048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86560" y="5113440"/>
            <a:ext cx="2036520" cy="1093680"/>
          </a:xfrm>
          <a:prstGeom prst="cube">
            <a:avLst>
              <a:gd name="adj" fmla="val 837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69040" y="5334120"/>
            <a:ext cx="11314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B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31760" y="2733840"/>
            <a:ext cx="2019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p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6720" y="2760840"/>
            <a:ext cx="565200" cy="7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280" y="2900520"/>
            <a:ext cx="566640" cy="7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077480" y="3141720"/>
            <a:ext cx="2017440" cy="307800"/>
            <a:chOff x="1077480" y="3141720"/>
            <a:chExt cx="2017440" cy="307800"/>
          </a:xfrm>
        </p:grpSpPr>
        <p:sp>
          <p:nvSpPr>
            <p:cNvPr id="146" name=""/>
            <p:cNvSpPr/>
            <p:nvPr/>
          </p:nvSpPr>
          <p:spPr>
            <a:xfrm>
              <a:off x="1127160" y="3141720"/>
              <a:ext cx="1967760" cy="3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7480" y="3159000"/>
              <a:ext cx="19270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JDBC_Driver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990000" y="3651120"/>
            <a:ext cx="2230560" cy="308160"/>
            <a:chOff x="990000" y="3651120"/>
            <a:chExt cx="2230560" cy="308160"/>
          </a:xfrm>
        </p:grpSpPr>
        <p:sp>
          <p:nvSpPr>
            <p:cNvPr id="149" name=""/>
            <p:cNvSpPr/>
            <p:nvPr/>
          </p:nvSpPr>
          <p:spPr>
            <a:xfrm>
              <a:off x="1046520" y="3651120"/>
              <a:ext cx="2174040" cy="3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90000" y="3668760"/>
              <a:ext cx="2012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DataDirect Java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691240" y="2022480"/>
            <a:ext cx="2944800" cy="2603520"/>
          </a:xfrm>
          <a:prstGeom prst="cube">
            <a:avLst>
              <a:gd name="adj" fmla="val 837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55320" y="2246400"/>
            <a:ext cx="12672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eb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75040" y="3468600"/>
            <a:ext cx="0" cy="184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834880" y="2693880"/>
            <a:ext cx="938520" cy="308160"/>
            <a:chOff x="5834880" y="2693880"/>
            <a:chExt cx="938520" cy="308160"/>
          </a:xfrm>
        </p:grpSpPr>
        <p:sp>
          <p:nvSpPr>
            <p:cNvPr id="155" name=""/>
            <p:cNvSpPr/>
            <p:nvPr/>
          </p:nvSpPr>
          <p:spPr>
            <a:xfrm>
              <a:off x="5861160" y="2693880"/>
              <a:ext cx="912240" cy="3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34880" y="2711520"/>
              <a:ext cx="790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Apple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061760" y="2962440"/>
            <a:ext cx="940320" cy="307800"/>
            <a:chOff x="7061760" y="2962440"/>
            <a:chExt cx="940320" cy="307800"/>
          </a:xfrm>
        </p:grpSpPr>
        <p:sp>
          <p:nvSpPr>
            <p:cNvPr id="158" name=""/>
            <p:cNvSpPr/>
            <p:nvPr/>
          </p:nvSpPr>
          <p:spPr>
            <a:xfrm>
              <a:off x="7088400" y="2962440"/>
              <a:ext cx="913680" cy="3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61760" y="2979720"/>
              <a:ext cx="790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Apple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268800" y="3767040"/>
            <a:ext cx="266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392280" y="2728800"/>
            <a:ext cx="2463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20200" y="2728800"/>
            <a:ext cx="1603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&lt;download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38800" y="3635280"/>
            <a:ext cx="1859040" cy="86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22800" y="3832200"/>
            <a:ext cx="20196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DataDirect</a:t>
            </a:r>
            <a:br>
              <a:rPr sz="1600"/>
            </a:b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59440" y="3720960"/>
            <a:ext cx="563760" cy="7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5920" y="3852720"/>
            <a:ext cx="565200" cy="7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94560" y="4495680"/>
            <a:ext cx="9360" cy="887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DBC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 4: Direkte JDBC-Trei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76280" y="2685960"/>
            <a:ext cx="3909960" cy="2641680"/>
          </a:xfrm>
          <a:prstGeom prst="cube">
            <a:avLst>
              <a:gd name="adj" fmla="val 837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85680" y="3341520"/>
            <a:ext cx="2424240" cy="148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5120" y="2952720"/>
            <a:ext cx="7048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9920" y="3400560"/>
            <a:ext cx="2019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p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4880" y="3427560"/>
            <a:ext cx="565200" cy="7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8120" y="3570120"/>
            <a:ext cx="566640" cy="7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115640" y="3808440"/>
            <a:ext cx="2017440" cy="307800"/>
            <a:chOff x="1115640" y="3808440"/>
            <a:chExt cx="2017440" cy="307800"/>
          </a:xfrm>
        </p:grpSpPr>
        <p:sp>
          <p:nvSpPr>
            <p:cNvPr id="176" name=""/>
            <p:cNvSpPr/>
            <p:nvPr/>
          </p:nvSpPr>
          <p:spPr>
            <a:xfrm>
              <a:off x="1165320" y="3808440"/>
              <a:ext cx="1967760" cy="3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15640" y="3825720"/>
              <a:ext cx="19270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JDBC_Driver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027800" y="4317840"/>
            <a:ext cx="2230920" cy="307800"/>
            <a:chOff x="1027800" y="4317840"/>
            <a:chExt cx="2230920" cy="307800"/>
          </a:xfrm>
        </p:grpSpPr>
        <p:sp>
          <p:nvSpPr>
            <p:cNvPr id="179" name=""/>
            <p:cNvSpPr/>
            <p:nvPr/>
          </p:nvSpPr>
          <p:spPr>
            <a:xfrm>
              <a:off x="1084680" y="4317840"/>
              <a:ext cx="2174040" cy="3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27800" y="4335120"/>
              <a:ext cx="2061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racle Thin Java 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729400" y="2689200"/>
            <a:ext cx="2944800" cy="2603520"/>
          </a:xfrm>
          <a:prstGeom prst="cube">
            <a:avLst>
              <a:gd name="adj" fmla="val 837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93480" y="2913120"/>
            <a:ext cx="12672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eb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14640" y="4135320"/>
            <a:ext cx="0" cy="184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872680" y="3360600"/>
            <a:ext cx="938880" cy="307800"/>
            <a:chOff x="5872680" y="3360600"/>
            <a:chExt cx="938880" cy="307800"/>
          </a:xfrm>
        </p:grpSpPr>
        <p:sp>
          <p:nvSpPr>
            <p:cNvPr id="185" name=""/>
            <p:cNvSpPr/>
            <p:nvPr/>
          </p:nvSpPr>
          <p:spPr>
            <a:xfrm>
              <a:off x="5898960" y="3360600"/>
              <a:ext cx="912600" cy="3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72680" y="3377880"/>
              <a:ext cx="790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Apple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099560" y="3629160"/>
            <a:ext cx="940680" cy="307800"/>
            <a:chOff x="7099560" y="3629160"/>
            <a:chExt cx="940680" cy="307800"/>
          </a:xfrm>
        </p:grpSpPr>
        <p:sp>
          <p:nvSpPr>
            <p:cNvPr id="188" name=""/>
            <p:cNvSpPr/>
            <p:nvPr/>
          </p:nvSpPr>
          <p:spPr>
            <a:xfrm>
              <a:off x="7126560" y="3629160"/>
              <a:ext cx="913680" cy="3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99560" y="3646440"/>
              <a:ext cx="790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Apple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306600" y="4433760"/>
            <a:ext cx="2660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430440" y="3395520"/>
            <a:ext cx="2463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59800" y="3395520"/>
            <a:ext cx="1603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&lt;download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76960" y="4302000"/>
            <a:ext cx="1859040" cy="86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60960" y="4498920"/>
            <a:ext cx="2019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B-Serv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97600" y="4387680"/>
            <a:ext cx="563400" cy="7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97600" y="4511520"/>
            <a:ext cx="565200" cy="7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13:17:21Z</dcterms:created>
  <dc:creator>Sommer Alexander</dc:creator>
  <dc:description/>
  <dc:language>en-US</dc:language>
  <cp:lastModifiedBy>Tiscover</cp:lastModifiedBy>
  <dcterms:modified xsi:type="dcterms:W3CDTF">2005-11-07T09:11:13Z</dcterms:modified>
  <cp:revision>121</cp:revision>
  <dc:subject/>
  <dc:title>JDBC</dc:title>
</cp:coreProperties>
</file>