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3848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240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56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3848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240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621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324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bteilung für Bioinformatik JKU Li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jakarta.apache.org/tomcat/index.html" TargetMode="External"/><Relationship Id="rId2" Type="http://schemas.openxmlformats.org/officeDocument/2006/relationships/hyperlink" Target="http://localhost:8080/index.jsp" TargetMode="Externa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java.sun.com/products/servlet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Verdana"/>
              </a:rPr>
              <a:t>Java Servl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Architektur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68280" y="2057400"/>
            <a:ext cx="2527200" cy="1066680"/>
            <a:chOff x="368280" y="2057400"/>
            <a:chExt cx="2527200" cy="1066680"/>
          </a:xfrm>
        </p:grpSpPr>
        <p:sp>
          <p:nvSpPr>
            <p:cNvPr id="71" name=""/>
            <p:cNvSpPr/>
            <p:nvPr/>
          </p:nvSpPr>
          <p:spPr>
            <a:xfrm>
              <a:off x="1294920" y="2057400"/>
              <a:ext cx="63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8280" y="2567160"/>
              <a:ext cx="484200" cy="44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1600" y="2567160"/>
              <a:ext cx="503280" cy="444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94000" y="2567160"/>
              <a:ext cx="501480" cy="444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503280" y="2514600"/>
              <a:ext cx="6411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5"/>
            <a:stretch/>
          </p:blipFill>
          <p:spPr>
            <a:xfrm>
              <a:off x="1341360" y="2514600"/>
              <a:ext cx="6415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2179800" y="2514600"/>
              <a:ext cx="64116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247680" y="3123720"/>
            <a:ext cx="5772240" cy="3166920"/>
            <a:chOff x="247680" y="3123720"/>
            <a:chExt cx="5772240" cy="3166920"/>
          </a:xfrm>
        </p:grpSpPr>
        <p:sp>
          <p:nvSpPr>
            <p:cNvPr id="79" name=""/>
            <p:cNvSpPr/>
            <p:nvPr/>
          </p:nvSpPr>
          <p:spPr>
            <a:xfrm>
              <a:off x="4114800" y="3200400"/>
              <a:ext cx="1828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TP Respons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, GIF, 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7680" y="4362480"/>
              <a:ext cx="5772240" cy="19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ahoma"/>
                </a:rPr>
                <a:t>Snoopy.html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&lt;HTML&gt;&lt;BODY&gt;&lt;P&gt;Some text&lt;/P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&lt;FORM METHOD=</a:t>
              </a:r>
              <a:r>
                <a:rPr b="1" lang="de-DE" sz="1200" spc="-1" strike="noStrike">
                  <a:solidFill>
                    <a:srgbClr val="000000"/>
                  </a:solidFill>
                  <a:latin typeface="Courier New"/>
                </a:rPr>
                <a:t>"GET“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ACTION="http://somehost.com:80/servlets/</a:t>
              </a:r>
              <a:r>
                <a:rPr b="1" lang="de-DE" sz="1200" spc="-1" strike="noStrike">
                  <a:solidFill>
                    <a:srgbClr val="000000"/>
                  </a:solidFill>
                  <a:latin typeface="Courier New"/>
                </a:rPr>
                <a:t>SnoopServlet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&lt;INPUT TYPE="</a:t>
              </a:r>
              <a:r>
                <a:rPr b="1" lang="de-DE" sz="1200" spc="-1" strike="noStrike">
                  <a:solidFill>
                    <a:srgbClr val="000000"/>
                  </a:solidFill>
                  <a:latin typeface="Courier New"/>
                </a:rPr>
                <a:t>submit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" NAME="sendFile"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VALUE="Run the servlet"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&lt;/FORM&g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149640" y="3123720"/>
              <a:ext cx="1782720" cy="12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203880" y="1905120"/>
            <a:ext cx="2641680" cy="3124080"/>
            <a:chOff x="6203880" y="1905120"/>
            <a:chExt cx="2641680" cy="3124080"/>
          </a:xfrm>
        </p:grpSpPr>
        <p:sp>
          <p:nvSpPr>
            <p:cNvPr id="83" name=""/>
            <p:cNvSpPr/>
            <p:nvPr/>
          </p:nvSpPr>
          <p:spPr>
            <a:xfrm>
              <a:off x="6369120" y="2895480"/>
              <a:ext cx="2311200" cy="304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ahoma"/>
                </a:rPr>
                <a:t>Servle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68320" y="1905120"/>
              <a:ext cx="73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86680" y="2819520"/>
              <a:ext cx="2476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9120" y="3429000"/>
              <a:ext cx="2311200" cy="304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ahoma"/>
                </a:rPr>
                <a:t>Servle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86680" y="3352680"/>
              <a:ext cx="24764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69120" y="4038480"/>
              <a:ext cx="2311200" cy="3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ahoma"/>
                </a:rPr>
                <a:t>Servlet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86680" y="3962520"/>
              <a:ext cx="24764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51560" y="2362320"/>
              <a:ext cx="2063880" cy="304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34000" y="2362320"/>
              <a:ext cx="191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ahoma"/>
                </a:rPr>
                <a:t>Servlet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51560" y="4495680"/>
              <a:ext cx="2063880" cy="304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34000" y="4495680"/>
              <a:ext cx="191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ahoma"/>
                </a:rPr>
                <a:t>ServletRespon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03880" y="2286000"/>
              <a:ext cx="2641680" cy="2743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4228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42280" y="3276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42280" y="3886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228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19920" y="5029200"/>
            <a:ext cx="2941920" cy="960480"/>
            <a:chOff x="6019920" y="5029200"/>
            <a:chExt cx="2941920" cy="960480"/>
          </a:xfrm>
        </p:grpSpPr>
        <p:sp>
          <p:nvSpPr>
            <p:cNvPr id="100" name=""/>
            <p:cNvSpPr/>
            <p:nvPr/>
          </p:nvSpPr>
          <p:spPr>
            <a:xfrm>
              <a:off x="6215040" y="5715000"/>
              <a:ext cx="274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ynamische Generier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019920" y="502920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276720" y="2475000"/>
            <a:ext cx="2895480" cy="420480"/>
            <a:chOff x="3276720" y="2475000"/>
            <a:chExt cx="2895480" cy="420480"/>
          </a:xfrm>
        </p:grpSpPr>
        <p:sp>
          <p:nvSpPr>
            <p:cNvPr id="103" name=""/>
            <p:cNvSpPr/>
            <p:nvPr/>
          </p:nvSpPr>
          <p:spPr>
            <a:xfrm>
              <a:off x="3720600" y="2475000"/>
              <a:ext cx="149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TP Requ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289548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Webapplication - &lt;name&gt;.w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rmöglicht das schnelle Einsetzen einer (Web)Applikation auf verschiedensten Servlet-Container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efiniert die Verzeichnisstruktur und das Verhalten einer Webapplik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nfigurationsfile: web.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zeichnisstrukt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ootDir, DocumentRoo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praktikum (*.html, imag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B-INF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web.x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lasse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SnoopServlet.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ib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Libra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WebApp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31910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Architektur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8920" y="2708280"/>
            <a:ext cx="3137040" cy="3483000"/>
            <a:chOff x="88920" y="2708280"/>
            <a:chExt cx="3137040" cy="3483000"/>
          </a:xfrm>
        </p:grpSpPr>
        <p:grpSp>
          <p:nvGrpSpPr>
            <p:cNvPr id="110" name=""/>
            <p:cNvGrpSpPr/>
            <p:nvPr/>
          </p:nvGrpSpPr>
          <p:grpSpPr>
            <a:xfrm>
              <a:off x="88920" y="2708280"/>
              <a:ext cx="2971800" cy="1540440"/>
              <a:chOff x="88920" y="2708280"/>
              <a:chExt cx="2971800" cy="1540440"/>
            </a:xfrm>
          </p:grpSpPr>
          <p:sp>
            <p:nvSpPr>
              <p:cNvPr id="111" name=""/>
              <p:cNvSpPr/>
              <p:nvPr/>
            </p:nvSpPr>
            <p:spPr>
              <a:xfrm>
                <a:off x="88920" y="2708280"/>
                <a:ext cx="2971800" cy="398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GenericServl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8920" y="3089160"/>
                <a:ext cx="2971800" cy="11595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Courier New"/>
                  </a:rPr>
                  <a:t>init()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Courier New"/>
                  </a:rPr>
                  <a:t>getInitParameter(name)</a:t>
                </a:r>
                <a:br>
                  <a:rPr sz="1400"/>
                </a:br>
                <a:r>
                  <a:rPr b="1" lang="de-DE" sz="1400" spc="-1" strike="noStrike">
                    <a:solidFill>
                      <a:srgbClr val="000000"/>
                    </a:solidFill>
                    <a:latin typeface="Courier New"/>
                  </a:rPr>
                  <a:t>service(request, response)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Courier New"/>
                  </a:rPr>
                  <a:t>log(message)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Courier New"/>
                  </a:rPr>
                  <a:t>destroy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01520" y="4863960"/>
              <a:ext cx="3124440" cy="1327320"/>
              <a:chOff x="101520" y="4863960"/>
              <a:chExt cx="3124440" cy="132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101520" y="4863960"/>
                <a:ext cx="3124440" cy="398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Courier New"/>
                  </a:rPr>
                  <a:t>HttpServl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1520" y="5244840"/>
                <a:ext cx="3124440" cy="946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Courier New"/>
                  </a:rPr>
                  <a:t>doGet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Courier New"/>
                  </a:rPr>
                  <a:t>(request, response)</a:t>
                </a:r>
                <a:br>
                  <a:rPr sz="1400"/>
                </a:br>
                <a:r>
                  <a:rPr b="1" lang="de-DE" sz="1400" spc="-1" strike="noStrike">
                    <a:solidFill>
                      <a:srgbClr val="000000"/>
                    </a:solidFill>
                    <a:latin typeface="Courier New"/>
                  </a:rPr>
                  <a:t>doPost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Courier New"/>
                  </a:rPr>
                  <a:t>(request, response)</a:t>
                </a:r>
                <a:br>
                  <a:rPr sz="1400"/>
                </a:br>
                <a:r>
                  <a:rPr b="1" lang="de-DE" sz="1400" spc="-1" strike="noStrike">
                    <a:solidFill>
                      <a:srgbClr val="000000"/>
                    </a:solidFill>
                    <a:latin typeface="Courier New"/>
                  </a:rPr>
                  <a:t>doPut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Courier New"/>
                  </a:rPr>
                  <a:t>(request, response)</a:t>
                </a:r>
                <a:br>
                  <a:rPr sz="1400"/>
                </a:br>
                <a:r>
                  <a:rPr b="1" lang="de-DE" sz="1400" spc="-1" strike="noStrike">
                    <a:solidFill>
                      <a:srgbClr val="000000"/>
                    </a:solidFill>
                    <a:latin typeface="Courier New"/>
                  </a:rPr>
                  <a:t>doDelete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Courier New"/>
                  </a:rPr>
                  <a:t>(request, response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460520" y="425448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536840" y="4483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060720" y="3671640"/>
            <a:ext cx="3384360" cy="2613600"/>
            <a:chOff x="3060720" y="3671640"/>
            <a:chExt cx="3384360" cy="2613600"/>
          </a:xfrm>
        </p:grpSpPr>
        <p:grpSp>
          <p:nvGrpSpPr>
            <p:cNvPr id="119" name=""/>
            <p:cNvGrpSpPr/>
            <p:nvPr/>
          </p:nvGrpSpPr>
          <p:grpSpPr>
            <a:xfrm>
              <a:off x="3625920" y="5454720"/>
              <a:ext cx="2819160" cy="830520"/>
              <a:chOff x="3625920" y="5454720"/>
              <a:chExt cx="2819160" cy="830520"/>
            </a:xfrm>
          </p:grpSpPr>
          <p:sp>
            <p:nvSpPr>
              <p:cNvPr id="120" name=""/>
              <p:cNvSpPr/>
              <p:nvPr/>
            </p:nvSpPr>
            <p:spPr>
              <a:xfrm>
                <a:off x="3625920" y="5454720"/>
                <a:ext cx="2819160" cy="3682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Courier New"/>
                  </a:rPr>
                  <a:t>HttpServletRespon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25920" y="5826240"/>
                <a:ext cx="2819160" cy="4590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Courier New"/>
                  </a:rPr>
                  <a:t>setContentType</a:t>
                </a: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(type)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000000"/>
                    </a:solidFill>
                    <a:latin typeface="Courier New"/>
                  </a:rPr>
                  <a:t>getWriter</a:t>
                </a: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(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373200" y="5092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ourier New"/>
                </a:rPr>
                <a:t>&lt;&lt;parameter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"/>
            <p:cNvCxnSpPr>
              <a:stCxn id="112" idx="3"/>
              <a:endCxn id="120" idx="1"/>
            </p:cNvCxnSpPr>
            <p:nvPr/>
          </p:nvCxnSpPr>
          <p:spPr>
            <a:xfrm>
              <a:off x="3060720" y="3671640"/>
              <a:ext cx="565920" cy="1972440"/>
            </a:xfrm>
            <a:prstGeom prst="bentConnector3">
              <a:avLst>
                <a:gd name="adj1" fmla="val 499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4" name=""/>
          <p:cNvGrpSpPr/>
          <p:nvPr/>
        </p:nvGrpSpPr>
        <p:grpSpPr>
          <a:xfrm>
            <a:off x="3060720" y="3263760"/>
            <a:ext cx="3232080" cy="1616760"/>
            <a:chOff x="3060720" y="3263760"/>
            <a:chExt cx="3232080" cy="1616760"/>
          </a:xfrm>
        </p:grpSpPr>
        <p:grpSp>
          <p:nvGrpSpPr>
            <p:cNvPr id="125" name=""/>
            <p:cNvGrpSpPr/>
            <p:nvPr/>
          </p:nvGrpSpPr>
          <p:grpSpPr>
            <a:xfrm>
              <a:off x="3625920" y="3649680"/>
              <a:ext cx="2666880" cy="1230840"/>
              <a:chOff x="3625920" y="3649680"/>
              <a:chExt cx="2666880" cy="1230840"/>
            </a:xfrm>
          </p:grpSpPr>
          <p:sp>
            <p:nvSpPr>
              <p:cNvPr id="126" name=""/>
              <p:cNvSpPr/>
              <p:nvPr/>
            </p:nvSpPr>
            <p:spPr>
              <a:xfrm>
                <a:off x="3625920" y="3649680"/>
                <a:ext cx="2666880" cy="3682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Courier New"/>
                  </a:rPr>
                  <a:t>HttpServletReque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25920" y="4025880"/>
                <a:ext cx="2666880" cy="8546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Courier New"/>
                  </a:rPr>
                  <a:t>getParameter(name)</a:t>
                </a:r>
                <a:br>
                  <a:rPr sz="1200"/>
                </a:br>
                <a:r>
                  <a:rPr b="1" lang="de-DE" sz="1400" spc="-1" strike="noStrike">
                    <a:solidFill>
                      <a:srgbClr val="000000"/>
                    </a:solidFill>
                    <a:latin typeface="Courier New"/>
                  </a:rPr>
                  <a:t>getSession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Courier New"/>
                  </a:rPr>
                  <a:t>()</a:t>
                </a:r>
                <a:br>
                  <a:rPr sz="1400"/>
                </a:b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getAttribute(name)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setAttribute(name, objec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373200" y="32637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ourier New"/>
                </a:rPr>
                <a:t>&lt;&lt;parameter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12" idx="3"/>
              <a:endCxn id="126" idx="1"/>
            </p:cNvCxnSpPr>
            <p:nvPr/>
          </p:nvCxnSpPr>
          <p:spPr>
            <a:xfrm>
              <a:off x="3060720" y="3671640"/>
              <a:ext cx="565920" cy="167040"/>
            </a:xfrm>
            <a:prstGeom prst="bentConnector3">
              <a:avLst>
                <a:gd name="adj1" fmla="val 499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6292800" y="3549600"/>
            <a:ext cx="2781360" cy="1792440"/>
            <a:chOff x="6292800" y="3549600"/>
            <a:chExt cx="2781360" cy="1792440"/>
          </a:xfrm>
        </p:grpSpPr>
        <p:grpSp>
          <p:nvGrpSpPr>
            <p:cNvPr id="131" name=""/>
            <p:cNvGrpSpPr/>
            <p:nvPr/>
          </p:nvGrpSpPr>
          <p:grpSpPr>
            <a:xfrm>
              <a:off x="6483240" y="4159080"/>
              <a:ext cx="2590920" cy="1182960"/>
              <a:chOff x="6483240" y="4159080"/>
              <a:chExt cx="2590920" cy="1182960"/>
            </a:xfrm>
          </p:grpSpPr>
          <p:sp>
            <p:nvSpPr>
              <p:cNvPr id="132" name=""/>
              <p:cNvSpPr/>
              <p:nvPr/>
            </p:nvSpPr>
            <p:spPr>
              <a:xfrm>
                <a:off x="6483240" y="4159080"/>
                <a:ext cx="2590920" cy="368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Courier New"/>
                  </a:rPr>
                  <a:t>HttpSes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83240" y="4518000"/>
                <a:ext cx="2590920" cy="8240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getAttribute(name)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setAttribute(name, object)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isNew()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setMaxInactiveInterval(i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4" name=""/>
            <p:cNvCxnSpPr>
              <a:stCxn id="126" idx="3"/>
              <a:endCxn id="132" idx="0"/>
            </p:cNvCxnSpPr>
            <p:nvPr/>
          </p:nvCxnSpPr>
          <p:spPr>
            <a:xfrm>
              <a:off x="6292800" y="3838680"/>
              <a:ext cx="1486800" cy="321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" name=""/>
            <p:cNvSpPr/>
            <p:nvPr/>
          </p:nvSpPr>
          <p:spPr>
            <a:xfrm>
              <a:off x="6603840" y="3549600"/>
              <a:ext cx="14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ourier New"/>
                </a:rPr>
                <a:t>getSession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53000" y="1949400"/>
            <a:ext cx="4725360" cy="801720"/>
            <a:chOff x="1053000" y="1949400"/>
            <a:chExt cx="4725360" cy="801720"/>
          </a:xfrm>
        </p:grpSpPr>
        <p:grpSp>
          <p:nvGrpSpPr>
            <p:cNvPr id="137" name=""/>
            <p:cNvGrpSpPr/>
            <p:nvPr/>
          </p:nvGrpSpPr>
          <p:grpSpPr>
            <a:xfrm>
              <a:off x="3492360" y="2139840"/>
              <a:ext cx="2286000" cy="611280"/>
              <a:chOff x="3492360" y="2139840"/>
              <a:chExt cx="2286000" cy="611280"/>
            </a:xfrm>
          </p:grpSpPr>
          <p:sp>
            <p:nvSpPr>
              <p:cNvPr id="138" name=""/>
              <p:cNvSpPr/>
              <p:nvPr/>
            </p:nvSpPr>
            <p:spPr>
              <a:xfrm>
                <a:off x="3492360" y="2139840"/>
                <a:ext cx="2286000" cy="368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Courier New"/>
                  </a:rPr>
                  <a:t>ServletConfi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492360" y="2474640"/>
                <a:ext cx="2286000" cy="2764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getInitParameter(nam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053000" y="1949400"/>
              <a:ext cx="21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ourier New"/>
                </a:rPr>
                <a:t>getServletConfig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"/>
            <p:cNvCxnSpPr>
              <a:stCxn id="111" idx="0"/>
              <a:endCxn id="138" idx="1"/>
            </p:cNvCxnSpPr>
            <p:nvPr/>
          </p:nvCxnSpPr>
          <p:spPr>
            <a:xfrm flipH="1" flipV="1" rot="5400000">
              <a:off x="2343240" y="1559160"/>
              <a:ext cx="380160" cy="1918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5020200" y="1771560"/>
            <a:ext cx="4034880" cy="1727280"/>
            <a:chOff x="5020200" y="1771560"/>
            <a:chExt cx="4034880" cy="1727280"/>
          </a:xfrm>
        </p:grpSpPr>
        <p:grpSp>
          <p:nvGrpSpPr>
            <p:cNvPr id="143" name=""/>
            <p:cNvGrpSpPr/>
            <p:nvPr/>
          </p:nvGrpSpPr>
          <p:grpSpPr>
            <a:xfrm>
              <a:off x="6464160" y="2139840"/>
              <a:ext cx="2590920" cy="1359000"/>
              <a:chOff x="6464160" y="2139840"/>
              <a:chExt cx="2590920" cy="1359000"/>
            </a:xfrm>
          </p:grpSpPr>
          <p:sp>
            <p:nvSpPr>
              <p:cNvPr id="144" name=""/>
              <p:cNvSpPr/>
              <p:nvPr/>
            </p:nvSpPr>
            <p:spPr>
              <a:xfrm>
                <a:off x="6464160" y="2139840"/>
                <a:ext cx="2590920" cy="368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Courier New"/>
                  </a:rPr>
                  <a:t>ServletCon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64160" y="2492280"/>
                <a:ext cx="2590920" cy="100656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getInitParameter(name)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getAttribute(name)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setAttribute(name, object)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log(message)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0000"/>
                    </a:solidFill>
                    <a:latin typeface="Courier New"/>
                  </a:rPr>
                  <a:t>getRequestDispatcher(path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020200" y="1771560"/>
              <a:ext cx="220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ourier New"/>
                </a:rPr>
                <a:t>getServletContex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38" idx="3"/>
              <a:endCxn id="144" idx="1"/>
            </p:cNvCxnSpPr>
            <p:nvPr/>
          </p:nvCxnSpPr>
          <p:spPr>
            <a:xfrm>
              <a:off x="5778000" y="2328480"/>
              <a:ext cx="68652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TTP Servlet Metho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mport javax.servlet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mport javax.servlet.http.*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0" i="1" lang="de-DE" sz="1600" spc="-1" strike="noStrike">
                <a:solidFill>
                  <a:srgbClr val="000000"/>
                </a:solidFill>
                <a:latin typeface="Courier New"/>
              </a:rPr>
              <a:t>SnoopServlet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xtends HttpServlet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doGet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HttpServletRequest req, HttpServletResponse res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             throws ServletException, IOException {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doGetPostRequest(„GET“,req,re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doPost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HttpServletRequest req, HttpServletResponse res)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              throws ServletException, IOException  {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doGetPostRequest(„POST“,req,re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void doGetPostRequest(String method, HttpServletRequest req,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                        HttpServletResponse res)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              throws ServletException, IOException  {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Lebenszyk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ethoden, die zur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euerung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überschrieben werden können, werden ausschließlich vom Server aufgerufen:</a:t>
            </a:r>
            <a:br>
              <a:rPr sz="20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oid init(ServletConfig config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oid doDelete(HttpServletRequest, HttpServletResponse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oid doGet(HttpServletRequest, HttpServletResponse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oid doPost(HttpServletRequest, HttpServletResponse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void doPut(HttpServletRequest, HttpServletResponse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ublic void destroy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ebenszyklu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ruf vo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init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nach dem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Lade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Servl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oXXX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bei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Anfrage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von Cli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ende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wird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destroy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aufgeruf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itialisier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9152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thode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nit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ird vor dem ersten doXXX()-Aufruf ausgefüh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hrows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UnavailableException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, falls das Servlet nicht benutzbar i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itialisierungsparameter im Deployment Descrip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ür Servlet, z.B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getInitParameter("forwardURL");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servle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nit-param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aram-name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gt;forwardURL&lt;/param-na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aram-value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gt;/main&lt;/param-valu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/init-param&gt; …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ür Applikation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getServletContext().getInitParameter("name");</a:t>
            </a:r>
            <a:br>
              <a:rPr sz="1400"/>
            </a:br>
            <a:br>
              <a:rPr sz="14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web-app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&l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ontext-param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aram-name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gt;name&lt;/param-na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aram-value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gt;a_val&lt;/param-valu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/context-param&gt;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ttpServletReq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griff auf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ead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- bzw.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ody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-Daten des HTTP Requ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TTP-Parameter (Transparent GET oder PO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param = request.getParameter(nam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[] params = request.getParameterValues(name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numeration p = request.getParameterNames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q = request.getQueryString();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(für HTTP GE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ssion ID: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getRequestedSessionId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- siehe Session Trac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itere Header-D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.B.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getRemoteHost(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getRemoteUser(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getLocale(),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ody-Daten (bei POST, PUT, und DELE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ntweder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implizit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mit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getParameter(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oder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expliz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eader-Daten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getContentType(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getContentLength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getReader(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ür Textdaten bzw.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getInputStream(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ür Binärd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ttpServlet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596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esponse.setContentType("text/html;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harset=ISO-8859-1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itere Methoden: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etContentLength(len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addCookie(cookie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ch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equest.getSession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kann implizit Header-Daten (Cookie) erzeu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ody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erst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nach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n Header-Daten schreib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PrintStream out=response.getWriter();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für Textd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eichencodierung entsprechend dem bei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etContentTy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ngegebenen chars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esponse.getOutputStream(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für Binärdaten (z.B. Bild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enerieren von 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as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enerieren von HTML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kann durch einfach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Anweisungen erfolgen. Z.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out=response.getWriter(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out.println(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&lt;HTML&gt;&lt;HEAD&gt;&lt;TITLE&gt;Hello World&lt;/TITLE&gt;"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nline HTML-Tutorial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://selfhtml.teamone.de/html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n Weg zur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Trennung von HTML und Java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-Code stellt die Verwendung von Templates bzw. Server Side Include-Mechanismen dar, z.B. Java Server P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HTML&gt;&lt;HEAD&gt;&lt;TITLE&gt;Hello World&lt;/TITLE&gt;&lt;/HEAD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BODY&gt;&lt;TABLE&gt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% Iterator i=all.iterator(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while(i.hasNext()) { %&gt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TR&gt;&lt;TD&gt; 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ispiel „</a:t>
            </a:r>
            <a:r>
              <a:rPr b="0" i="1" lang="de-DE" sz="2800" spc="-1" strike="noStrike">
                <a:solidFill>
                  <a:srgbClr val="000000"/>
                </a:solidFill>
                <a:latin typeface="Courier New"/>
              </a:rPr>
              <a:t>doGet()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839960"/>
            <a:ext cx="883944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doGetPostRequest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(HttpServletRequest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eq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, HttpServletResponse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es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hrows ServletException, IOException {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rintWriter ou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es.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etContentType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("text/html"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out = res.getWriter(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out.println("&lt;html&gt;&lt;head&gt;&lt;title&gt;Snoop Servlet&lt;/title&gt;&lt;/head&gt;"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out.println("&lt;body bgcolor=\"#FFFFFF\"&gt;"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out.println("&lt;h1&gt;Requested URL:&lt;/h1&gt;"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out.println (getRequestURL ().toString ()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log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(req.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etRequestURL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().toString 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Enumeration e = req.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etHeaderNames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while (e.hasMoreElements()) {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String name = (String)e.nextElement(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out.println(" " + name + ": " + req.getHeader(name)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e = req.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etParameterNames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out.clo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89000"/>
            <a:ext cx="9144000" cy="9064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Java Servl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rundla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TTP-Protokoll, Request/Response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rchitekt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rkmale, Servlet-Methoden, Lebenszyklus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ssion Tracking API, Cookies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ployment Descriptor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ultithreading / Synchronisier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ugriffe auf den Server von mehreren Clients gleichzeitig möglich; pro Client wird ein eigener Thread gestart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ynchronisierung beim Zugriff auf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gemeinsam verwendete Objekt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z.B. static-Variablen, ServletContext- und HttpSession-Attrib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ynchronisierung auf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rvlet-Instanzvariab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.A. existiert nur eine Instanz pro Servlet-Klasse, d.h. der Zugriff auf Servlet-Instanzvariablen muss auch synchronisiert werden, z.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public synchronized void doGet(HttpServletRequest req,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sser: Keine Instanzvariablen, sondern mit Objekte in Session oder Request Speichern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eq.setAttribute(„com.uni.MyParamBean“,paramBean)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paramBean = req.getAttribute(„com.uni.MyParamBean“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ingleThread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ückgabe von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ehlermeldungen an den Clien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urch die Method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endError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HttpServletRespons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z.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public void doGet (HttpServletRequest req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            HttpServletResponse res) throws …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res.sendError(HttpServletResponse.SC_FORBIDDE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protokollieren in der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ogdatei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mit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log(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z.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…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atch(Exception e) { log("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oops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", e); 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trag im Logfile der Web-Applika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2001-11-03 11:30:53 myservlet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oo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java.lang.NumberFormatException: 4711 not suppor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t MyServlet.doGet(MyServlet.java:5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219320"/>
            <a:ext cx="885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Interaktion zwischen Servlets (via Cl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2133720"/>
            <a:ext cx="8686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ntrollfluß: U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er HTML-Output eines Servlet kann Links auf andere Servlets enthalten,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ut.println("&lt;A HREF=/MoreServlet&gt;Weiter&lt;/A&gt;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e Entscheidung, ob bzw. welches Servlet aufgerufen wird, liegt beim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atenfluß: Request-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TTP-Output enthält Daten, die als Request-Parameter an das Ziel-Servlet übermittel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ls Teil der URL, z.B.: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ut.println("&lt;A HREF=\"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UserDetailServlet?userId=" +user.getId()+ "\"&gt;" + user.getName() + "&lt;/A&gt;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elder in einem Formular, z.B.: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ut.println("&lt;FORM ACTION=\"/DeleteUserServlet\" METHOD=GET&gt;"+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"&lt;INPUT TYPE=HIDDEN NAME=userId VALUE=" +user.getId()+ "&gt;"+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"&lt;INPUT TYPE=SUBMIT VALUE=\"Delete!\"&gt;&lt;/FORM&gt;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Nur String-Daten sind möglich; Alternative: Session-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teraktion zwischen Servlets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direk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20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ontrollfluß: Delegation und Einbind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itergabe einer Client-Anfrage an andere URLs (Servlets, HTML-Seiten, etc.) mittels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RequestDispatch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, z.B.: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equestDispatcher d = req.getRequestDispatcher("index.html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Delegatio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eines Request an eine URL mit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d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orward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request, response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; es dürfen noch keine Response-Daten gesendet worden se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Einbindung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einer URL mit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d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clud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request, response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; die Ausgabe der URL wird in den Response eingefüg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atenfluß: 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ttribute eine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ervletRequest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equest.setAttribute(name, object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object=request.getAttribute(nam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ttribute eine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ervletContext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ervlet.getServletContext().getAttribute(name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bzw.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ervlet.getServletContext().setAttribute(name, object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ispiel: 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forward()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include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2324160"/>
            <a:ext cx="8381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3711600"/>
            <a:ext cx="9144000" cy="936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Java Servl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Grundla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HTTP-Protokoll, Request/Response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Architekt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Merkmale, Servlet-Methoden, Lebenszyklus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ssion Tracking API, Cookies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ployment Descriptor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ession Trac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blem: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Zustandslosigkei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von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s gibt keine "Sessions", d.h., jeder </a:t>
            </a:r>
            <a:r>
              <a:rPr b="0" i="1" lang="de-AT" sz="2000" spc="-1" strike="noStrike">
                <a:solidFill>
                  <a:srgbClr val="000000"/>
                </a:solidFill>
                <a:latin typeface="Verdana"/>
              </a:rPr>
              <a:t>Request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 wird individuell und unabhängig von den anderen betracht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s ist z.B. schwer in kontextabhängigen Dokumenten (etwa </a:t>
            </a:r>
            <a:r>
              <a:rPr b="0" i="1" lang="de-AT" sz="2000" spc="-1" strike="noStrike">
                <a:solidFill>
                  <a:srgbClr val="000000"/>
                </a:solidFill>
                <a:latin typeface="Verdana"/>
              </a:rPr>
              <a:t>Forms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) zu navigieren oder Ergebnisse einer Suche in Teilen zu präsenti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schiedene Varianten, Zustandsinformation in Anfragen "einzubauen"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1) Autorisierung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Benutz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2) Versteckt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Felder in Formul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3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Zustandsinformation i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URL kodi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4) Cook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5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Java Servlet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ssion Tracking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(1) Autorisierung des Benutz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s Servlet wird über eine Username/Passwort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schützt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eite geladen.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enutzerinformation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kann dann bei jedem Zugriff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bgefragt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werden und benutzerspezifische Daten z.B. in einer Datenbank abgelegt werd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ring un = req.getRemoteUser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if ((un == null) || (un.equals("")))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//this should not be the case! Raise an err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lse out.println("Welcome "+un+"&lt;BR&gt;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orteil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einfach zu implementieren, browser- und rechner-unabhängi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Nachteil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jeder Benutzer muss auf dem Webserver eingetragen sein; einloggen für jeden Request erforderli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(2) Versteckte Fe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ersteckte Felder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diese werden vom Browser nicht angezeigt) enthalten Session Information, z.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FORM METHOD="GET" ACTION="http://host/servlet"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INPUT TYPE="submit" NAME="sendFile" VALUE="Run"&gt;  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hidden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" NAME="item" VALUE="i4711"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hidden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" NAME="item" VALUE="i4712"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erwendung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Servl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ring []items = req.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etParameterValues("item"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for (int k=0; k&lt;items.length; k++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out.println("Your cart includes "+items[k]+"&lt;BR&gt;"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an könnte auch nur die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ssion I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als Hidden Field speicher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orteile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browserunabhängig, keine Registrierung erforderli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achteil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 fehleranfällig, weil versteckte Felder nicht persist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(3) Kodierung in UR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ssion ID wird im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URL kodier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, z.B. du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xtra Pfad Information (die das Servlet versteh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http://server:80/servlet/MyServlet/12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sätzlichen Parame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http://server:81/servlet/MyServlet?sessionid=12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gene Notatio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http://server:82/servlet/MyServlet;jsessionid=12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xtra Pfad Information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unktioniert mit POST und GET; Nachteil, falls wirklich der Pfad verwendet werden sol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 Verwendung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zusätzlicher Paramet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sind Namenskonflikte möglich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gene Notati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wird nicht notwendigerweise von allen Servern unterstützt (unwahrscheinlich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Web-Browser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 realisiert </a:t>
            </a: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Benutzerschnittste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Erweiterbar durch externe Anwendungen, Plugins, Appl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Problem dabei: lokale Installation notwendig; Plattform- und Browser-spezifis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Web-Server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 stellt Informationen ber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Dynamische Generierung der Informationen durch CGI-Programme, Server Side Includes, Servlets, JSP, PHP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 als Sprache zur Informationsbeschreib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Hypertext, Multim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Formulare als Mechanismus zur Dateneingabe durch den Benutz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HTTP 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als</a:t>
            </a: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Kommunikationsprotokoll zwischen Server und Brow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Zustandslosigkeit des HTTP-Protokolls erfordert Workarou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(4) Cook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rsprünglich von Netscape eingeführt (mittlerweile als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FC 2109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"HTTP State Management Mechanism" - Standards Trac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Cookies werden am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lient gespeicher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(wenn der Benutzer das erlaub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schränkunge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20 Cookies pro 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300 Cookies insgesamt pro U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röße je Cookie maximal 4096 bytes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Cookie co = new Cookie("ID", "Secret Info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co.setMaxAge(60*60*24*365); //~1 Ja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es.addCookie(co);  // noch VOR res.getWriter()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Cookie [] cookies = req.getCookies();//in diesem Request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(5) Session Tracking API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b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Java Servlets 2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terstützung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hängt vom verwendeten Serv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ab und Client ab; z.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erden Cookies verwendet, o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RL Kodierung (falls Cookies nicht verfügbar sin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RL-Kodierung mittels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sponse.encodeURL(url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Jeder Benutzer eines Servers hat genau ein Session Objekt. Dieses kann mi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Session session = request.getSession()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abgefragt bzw. beim 1. Aufruf erzeugt werde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alls mit dem Request eine Session-ID mitgeschickt wurde (mittels Cookie oder URL-Parameter), wird das entsprechende Session-Objekt gelief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onst wird ein neues Session-Objekt erzeugt, und die neue Session-ID im Response mitgeschick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alls der Client Cookies unterstützt, wird automatisch ein Cookie erzeug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nsonsten kann die Session-ID explizit mit URL-Kodierung übermittelt werd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(5) Session Tracking API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Session-Objekt könn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ssionspezifische Date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gespeichert werden, z.B. Benutzername, temporäre Daten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Session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setAttribut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String name, Object valu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Object HttpSession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getAttribut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String nam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Session.removeAttribute(String nam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Enumeration HttpSession.getAttributeNames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Session hat eine begrenzte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ültigkeitsdau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xplizite Invalidierung, z.B. beim Logout, mit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ession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nvalidate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tomatisch nach einer bestimmten Zeit, Default ist 30 min.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ession.setMaxInactiveInterval(int second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 einem Request mit einer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bgelaufenen Session-ID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rd ein neues Session-Objekt erzeugt (vgl.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equest.getRequestedSessionId()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nachrichtigung über das Ende einer Session durch Implementierung des Interface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HttpSessionBindingListe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4844880" y="582480"/>
            <a:ext cx="4127400" cy="1905120"/>
            <a:chOff x="4844880" y="582480"/>
            <a:chExt cx="4127400" cy="1905120"/>
          </a:xfrm>
        </p:grpSpPr>
        <p:sp>
          <p:nvSpPr>
            <p:cNvPr id="191" name=""/>
            <p:cNvSpPr/>
            <p:nvPr/>
          </p:nvSpPr>
          <p:spPr>
            <a:xfrm>
              <a:off x="4844880" y="582480"/>
              <a:ext cx="412740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4968720" y="706320"/>
              <a:ext cx="3879360" cy="165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T Beispi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wenden von Se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HttpSession session =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q.getSession(true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ut.println("&lt;LI&gt;Creation time &lt;b&gt;"+new Date(session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etCreationTime()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)+"&lt;/B&gt;"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ut.println("&lt;LI&gt;Session ID &lt;b&gt;"+session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etId()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+"&lt;/B&gt;")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ut.println("&lt;LI&gt;Session is new &lt;b&gt;"+session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sNew()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+"&lt;/B&gt;")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ession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etAttribut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("aKey", "aValue"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Enumeration attrs = session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etAttributeNames()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an=attrs.nextElement().toString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out.println("&lt;LI&gt;Name &lt;b&gt;"+an+"&lt;/b&gt;, value &lt;b&gt;"+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session.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etAttribute(an)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+"&lt;/B&gt;");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Arten von "Servlet-Variablen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567880" y="217476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cht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83640" y="2158920"/>
            <a:ext cx="183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bensda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320" y="2174760"/>
            <a:ext cx="21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t der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" y="267336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ttribute ein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ervlet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9880" y="349236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tribute ein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3560" y="516420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ttribute ein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ervlet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9280" y="4329000"/>
            <a:ext cx="20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nstanzvariabl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ines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" y="26290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" y="339084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" y="42292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" y="506736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9200" y="2187720"/>
            <a:ext cx="0" cy="37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640" y="267480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lle Servlets im Servlet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36840" y="2674800"/>
            <a:ext cx="26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s zum Ende der Web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79600" y="349416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ervlets im ServletContext, di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equests der Session behand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3800" y="432900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ethoden des Serv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3960" y="5164200"/>
            <a:ext cx="29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ervlets, die den Reques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ehande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04800" y="351936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s zum Ablauf der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62040" y="4356000"/>
            <a:ext cx="19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ervlet.init() bi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ervlet.destro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05880" y="516420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Bis zum Ende d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equest-Behand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00840" y="2273400"/>
            <a:ext cx="0" cy="36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572000"/>
            <a:ext cx="9144000" cy="936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Java Servl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Grundla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HTTP-Protokoll, Request/Response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Architekt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Merkmale, Servlet-Methoden, Lebenszyklus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Se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Session Tracking API, Cookies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ployment Descriptor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ervlet container: Jakarta Tomc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eferenz Implementi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pen source: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 u="sng">
                <a:solidFill>
                  <a:srgbClr val="003366"/>
                </a:solidFill>
                <a:uFillTx/>
                <a:latin typeface="Courier New"/>
                <a:hlinkClick r:id="rId1"/>
              </a:rPr>
              <a:t>http://jakarta.apache.org/tomcat/index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ktuelle Version: jakarta-tomcat-5.5.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stallation (Window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XE-File herunterla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stallation in z.B.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:\Tomcat 5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nötigt Java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tarten aus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:\Tomcat 5.5\bin\tomcat5.ex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Erster Aufruf: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Verdana"/>
                <a:hlinkClick r:id="rId2"/>
              </a:rPr>
              <a:t>http://localhost:8080/index.j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eues Servlet erste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5075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eues Servlet in Tomcat erstell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eues Verzeichnis in c:\jakarta-tomcat\webapps erstellen, z.B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yServl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ntsprechende Verzeichnisstruktur anleg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atei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web.xml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erst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mpilierte Java (Servlet) Klassen in Verzeichni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webapps\myServlet\classe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kopier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bzw. in entsprechende Unterverzeichnisse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nn Packages verwendet werden)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mpilieren eines Servlets:</a:t>
            </a:r>
            <a:br>
              <a:rPr sz="2000"/>
            </a:b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javac –classpath .; C:\Tomcat 5.5\common\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lib\servlet-api.jar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629400" y="4952880"/>
          <a:ext cx="175896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952880"/>
                    <a:ext cx="17589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ploy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omcat-Konfigurationsdatei conf/server.xml spezifiziert u.a. "Konnektoren" (Port, Protokoll), sowie die einzeln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Kontext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z.B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0" lang="de-DE" sz="1200" spc="-1" strike="noStrike">
                <a:solidFill>
                  <a:srgbClr val="808080"/>
                </a:solidFill>
                <a:latin typeface="Courier New"/>
              </a:rPr>
              <a:t>&lt;/Context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Context path="/praktikum" docBase="praktikum" debug="0" reloadable="true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Logger className="org.apache.catalina.logger.FileLogg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prefix="localhost_praktikum_log." suffix=".txt" timestamp="true"/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&lt;/Context&gt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e-DE" sz="1200" spc="-1" strike="noStrike">
                <a:solidFill>
                  <a:srgbClr val="808080"/>
                </a:solidFill>
                <a:latin typeface="Courier New"/>
              </a:rPr>
              <a:t>&lt;/Host&gt;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.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Jeder Kontext hat ei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ocument Root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zeichnis (docBas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nthält HTML-Dokumente, Bilder, usw.; via URL verfügbar, z.B.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http://localhost:8080/praktiku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pezielles Unterverzeichn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WEB-INF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(vor Client-Zugriffen geschütz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verzeichnis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lasses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für Klassen, insbesonders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HttpServlet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-Klass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verzeichnis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lib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für jar-Archive, z.B. JDBC-Treib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Web Application Deployment Descriptor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web.x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ployment Deskriptop </a:t>
            </a:r>
            <a:r>
              <a:rPr b="0" lang="de-DE" sz="2800" spc="-1" strike="noStrike">
                <a:solidFill>
                  <a:srgbClr val="000000"/>
                </a:solidFill>
                <a:latin typeface="Courier New"/>
              </a:rPr>
              <a:t>web.x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ezifikation der Servlets, Initialisierungsparameter und URLs (option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web-app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&l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ervlet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ervlet-name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gt;login&lt;/servlet-na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ervlet-class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gt;LoginServlet&lt;/servlet-clas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init-param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param-name&gt;foo&lt;/param-na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param-value&gt;bar&lt;/param-valu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/init-par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/servlet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..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&l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ervlet-mapping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&lt;servlet-name&gt;login&lt;/servlet-name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&l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url-pattern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gt;/login&lt;/url-pattern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&lt;/servlet-mapping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..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&lt;session-config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&lt;session-timeout&gt;30&lt;/session-timeout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&lt;/session-config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&lt;/web-app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4856400" y="4172040"/>
            <a:ext cx="4082040" cy="58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ervlet-UR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http://localhost:8080/test/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851280" y="443700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TTP-Protoko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Definiert in RFC-2068 (</a:t>
            </a:r>
            <a:r>
              <a:rPr b="0" lang="de-AT" sz="2000" spc="-1" strike="noStrike">
                <a:solidFill>
                  <a:srgbClr val="000000"/>
                </a:solidFill>
                <a:latin typeface="Courier New"/>
              </a:rPr>
              <a:t>www.ietf.org/rfc.html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Browser </a:t>
            </a:r>
            <a:r>
              <a:rPr b="0" i="1" lang="de-AT" sz="2000" spc="-1" strike="noStrike">
                <a:solidFill>
                  <a:srgbClr val="000000"/>
                </a:solidFill>
                <a:latin typeface="Verdana"/>
              </a:rPr>
              <a:t>(User-Agent)</a:t>
            </a: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 sendet </a:t>
            </a: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1. Zeile mit Requestmethode, z.B.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 oder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, und </a:t>
            </a:r>
            <a:r>
              <a:rPr b="0" i="1" lang="de-AT" sz="1800" spc="-1" strike="noStrike">
                <a:solidFill>
                  <a:srgbClr val="000000"/>
                </a:solidFill>
                <a:latin typeface="Verdana"/>
              </a:rPr>
              <a:t>URL-Pf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: Download von einer URL; ohne Body; Request-Parameter als Teil des URL sind möglich, z.B. /login?user=xx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POST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: wie GET, aber Parameter sind im Request-Body kodi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Weiters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OPTIONS</a:t>
            </a:r>
            <a:r>
              <a:rPr b="0" lang="de-AT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Es folgen </a:t>
            </a:r>
            <a:r>
              <a:rPr b="0" i="1" lang="de-AT" sz="1800" spc="-1" strike="noStrike">
                <a:solidFill>
                  <a:srgbClr val="000000"/>
                </a:solidFill>
                <a:latin typeface="Verdana"/>
              </a:rPr>
              <a:t>Header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-Zei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optional einen </a:t>
            </a:r>
            <a:r>
              <a:rPr b="0" i="1" lang="de-AT" sz="1800" spc="-1" strike="noStrike">
                <a:solidFill>
                  <a:srgbClr val="000000"/>
                </a:solidFill>
                <a:latin typeface="Verdana"/>
              </a:rPr>
              <a:t>Request-Body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 (enthält z.B. Formulardat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Server antwortet mit </a:t>
            </a: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Statusze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800" spc="-1" strike="noStrike">
                <a:solidFill>
                  <a:srgbClr val="000000"/>
                </a:solidFill>
                <a:latin typeface="Verdana"/>
              </a:rPr>
              <a:t>Header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-Zeilen, z.B.: </a:t>
            </a:r>
            <a:r>
              <a:rPr b="0" lang="de-AT" sz="1800" spc="-1" strike="noStrike">
                <a:solidFill>
                  <a:srgbClr val="000000"/>
                </a:solidFill>
                <a:latin typeface="Courier New"/>
              </a:rPr>
              <a:t>Content-Type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, Cookies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optional ein </a:t>
            </a:r>
            <a:r>
              <a:rPr b="0" i="1" lang="de-AT" sz="1800" spc="-1" strike="noStrike">
                <a:solidFill>
                  <a:srgbClr val="000000"/>
                </a:solidFill>
                <a:latin typeface="Verdana"/>
              </a:rPr>
              <a:t>Response-Body</a:t>
            </a: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, z.B. HTML-Code, GIF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Tomcat starten und been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mcat start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f der Kommandozeile in das Verzeichnis c:\jakarta-tomcat\bin wechsel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fad zum J2SDK 1.5.x Verzeichnis spezifizieren: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et JAVA_HOME=c:\j2sdk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omcat starten mit: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omcat beenden mit: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hutdow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ufruf des neuen Servlet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http://localhost:8080/myServlet/MyServ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5486400"/>
            <a:ext cx="9144000" cy="51444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Java Servl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Grundla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HTTP-Protokoll, Request/Response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Architekt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Merkmale, Servlet-Methoden, Lebenszyklus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Se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Session Tracking API, Cookies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Deployment Descriptor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tandardisierter SSI-Mechanismus für HTTP-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mcat als Referenzimplementierung der Servlet-Spezifik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rvlets werden in einem "Container"(Servlet-Engine) ausgefüh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mplementierung einer Client/Server Anwendung basierend auf Request/Response-Protoko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ssion Tracking API zur Simulation von Sessions in HTT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Li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Tutorial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://selfhtml.teamone.de/html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rvlet-UR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://java.sun.com/products/servlet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://www.novocode.com/doc/servlet-essentials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rvlet-Eng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pache Tomcat 4.1.x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://jakarta.apache.org/tomcat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itere Produkte: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://java.sun.com/products/servlet/industry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PI und Deployment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ku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ttp://jakarta.apache.org/tomcat/tomcat-4.1-doc/index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ttp://jakarta.apache.org/tomcat/tomcat-4.1-doc/appdev/index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de der 4. Übu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16080" y="2754360"/>
            <a:ext cx="82864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ispiel: HTTP-Req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Erzeug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on MS IE 5</a:t>
            </a: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 aus der URL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http://www.ifs.uni-linz.ac.at/ifs/index.html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/ifs/index.html HTTP/1.1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: image/gif, image/x-xbitmap, image/jpeg, image/pjpeg, application/vnd.ms-excel, application/msword, application/vnd.ms-powerpoint, */*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ccept-Languag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: de-at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Accept-Encoding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: gzip, deflat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User-Agent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: Mozilla/4.0 (compatible; MSIE 5.01; Windows NT 5.0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ost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: www.ifs.uni-linz.ac.at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onnection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: Keep-Al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ispiel: HTTP-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: Wed, 21 Mar 2001 14:59:04 GMT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Server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: Apache/1.3.9 (Unix) ApacheJServ/1.1b3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Keep-Aliv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: timeout=15, max=100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onnection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: Keep-Aliv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Content-Typ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: text/html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&lt;HEAD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&lt;TITLE&gt;IFS Homepage&lt;/TITLE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&lt;/HEAD&gt;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&lt;BODY BGCOLOR="#006595"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4959720" y="3886200"/>
            <a:ext cx="11577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erze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611360" y="4052880"/>
            <a:ext cx="33415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873520"/>
            <a:ext cx="9144000" cy="93636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Java Servl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Grundla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Verdana"/>
              </a:rPr>
              <a:t>HTTP-Protokoll, Request/Response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rchitekt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erkmale, Servlet-Methoden, Lebenszyklus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ession Tracking API, Cookies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ployment Descriptor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usammenfass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ntsteh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36440"/>
            <a:ext cx="86868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CGI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als Mechanismus der Erweiterung der Funktionalität des W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erformanznachteil (-&gt;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stCGI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eine Interaktion mit Webserver, weil eigener Prozess (z.B. kann ein CGI-Prozess nicht in die Logdatei des Servers schreib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996 stellt Netscape sogenannte "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rver-side Applet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" v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996 präsentiert W3C "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resource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" als serverseitige Java Mo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997 standardisiert JavaSoft die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rvle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Technolog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b 1999: Webserver Erweiterungen: PHP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iters gibt es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roprietäre Erweiterunge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(Server Side Includes, Active Server Pages) von Netscape, Microsoft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Java Server Pages (JSP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stellen einen Server Side Include (SSI) Mechanismus d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Servlets</a:t>
            </a:r>
            <a:br>
              <a:rPr sz="36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erkm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ervlets sind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rver-seitig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Klassen (Framework), die Applikationen nach dem Request – Response Modell ermöglichen. Primäres Ziel: HTTP-Anwend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lattformunabhängigkei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urch Java Technologie und standardisiertes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ederverwendung der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unktionalitä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von 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icherheitskonzep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von 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rweiterbarkei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, z.B. Java Server Pages (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http://java.sun.com/products/jsp/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URL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3366"/>
                </a:solidFill>
                <a:uFillTx/>
                <a:latin typeface="Courier New"/>
                <a:hlinkClick r:id="rId1"/>
              </a:rPr>
              <a:t>http://java.sun.com/products/servlet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://www.novocode.com/doc/servlet-essentials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13:17:21Z</dcterms:created>
  <dc:creator/>
  <dc:description/>
  <dc:language>en-US</dc:language>
  <cp:lastModifiedBy>FAW</cp:lastModifiedBy>
  <dcterms:modified xsi:type="dcterms:W3CDTF">2005-11-20T20:16:19Z</dcterms:modified>
  <cp:revision>127</cp:revision>
  <dc:subject/>
  <dc:title>Servlets</dc:title>
</cp:coreProperties>
</file>