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937500" cy="11422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381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4355640"/>
            <a:ext cx="8381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9972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8480" y="228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2400" y="228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435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8480" y="435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2400" y="435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560" y="1066680"/>
            <a:ext cx="8621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9972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4355640"/>
            <a:ext cx="8381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468760" y="0"/>
            <a:ext cx="3598920" cy="932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09520" y="596880"/>
            <a:ext cx="2730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3244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bteilung für Bioinformatik, JKU Li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22860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aktikum aus Softwareentwicklung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5468760" y="0"/>
            <a:ext cx="3598920" cy="9320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09520" y="596880"/>
            <a:ext cx="2730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22860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aktikum aus Softwareentwicklung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6084720" y="6392880"/>
            <a:ext cx="2584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57FC-A720-4125-8A68-AF4444EF39B8}" type="slidenum">
              <a:rPr b="1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hyperlink" Target="http://argouml.tigris.org/" TargetMode="External"/><Relationship Id="rId4" Type="http://schemas.openxmlformats.org/officeDocument/2006/relationships/hyperlink" Target="http://argouml.tigris.org/" TargetMode="External"/><Relationship Id="rId5" Type="http://schemas.openxmlformats.org/officeDocument/2006/relationships/hyperlink" Target="http://argouml.tigris.org/" TargetMode="External"/><Relationship Id="rId6" Type="http://schemas.openxmlformats.org/officeDocument/2006/relationships/hyperlink" Target="http://argouml.tigris.org/" TargetMode="External"/><Relationship Id="rId7" Type="http://schemas.openxmlformats.org/officeDocument/2006/relationships/hyperlink" Target="http://argouml.tigris.org/" TargetMode="External"/><Relationship Id="rId8" Type="http://schemas.openxmlformats.org/officeDocument/2006/relationships/hyperlink" Target="http://argouml.tigris.org/" TargetMode="External"/><Relationship Id="rId9" Type="http://schemas.openxmlformats.org/officeDocument/2006/relationships/hyperlink" Target="http://argouml.tigris.org/" TargetMode="External"/><Relationship Id="rId10" Type="http://schemas.openxmlformats.org/officeDocument/2006/relationships/hyperlink" Target="http://www.togethersoft.com/" TargetMode="External"/><Relationship Id="rId11" Type="http://schemas.openxmlformats.org/officeDocument/2006/relationships/hyperlink" Target="http://www.togethersoft.com/" TargetMode="External"/><Relationship Id="rId12" Type="http://schemas.openxmlformats.org/officeDocument/2006/relationships/hyperlink" Target="http://www.togethersoft.com/" TargetMode="External"/><Relationship Id="rId13" Type="http://schemas.openxmlformats.org/officeDocument/2006/relationships/hyperlink" Target="http://www.togethersoft.com/" TargetMode="External"/><Relationship Id="rId14" Type="http://schemas.openxmlformats.org/officeDocument/2006/relationships/hyperlink" Target="http://www.togethersoft.com/" TargetMode="External"/><Relationship Id="rId15" Type="http://schemas.openxmlformats.org/officeDocument/2006/relationships/hyperlink" Target="http://www.togethersoft.com/" TargetMode="External"/><Relationship Id="rId16" Type="http://schemas.openxmlformats.org/officeDocument/2006/relationships/hyperlink" Target="http://www.togethersoft.com/" TargetMode="External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aktikum aus Softwareentwicklu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780000" y="371160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30798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7006320" y="615636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000000"/>
                </a:solidFill>
                <a:latin typeface="Arial"/>
              </a:rPr>
              <a:t>Quelle: Pomberger, 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31920" y="1768320"/>
            <a:ext cx="1511280" cy="86544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0640" y="181296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Problem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und Grobplan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6440" y="2313000"/>
            <a:ext cx="1511280" cy="865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91920" y="2357280"/>
            <a:ext cx="11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System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spez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0" y="2862360"/>
            <a:ext cx="1511280" cy="865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50120" y="2906640"/>
            <a:ext cx="12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User-Interfac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97160" y="3452760"/>
            <a:ext cx="1511280" cy="62064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13720" y="349740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Entw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02080" y="3884760"/>
            <a:ext cx="1511280" cy="86508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17920" y="3929040"/>
            <a:ext cx="136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Architektur- 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Komponente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87640" y="4578480"/>
            <a:ext cx="1511280" cy="6332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17160" y="463716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Implementier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62400" y="5094360"/>
            <a:ext cx="1511280" cy="63324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76800" y="5124600"/>
            <a:ext cx="156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System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5640" y="5643720"/>
            <a:ext cx="1728720" cy="43164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55800" y="5654520"/>
            <a:ext cx="168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Betrieb und Wart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1998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59200" y="1998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87720" y="257508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25750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11560" y="4216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27560" y="371160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00720" y="47926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16360" y="47926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61080" y="5354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05360" y="535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0" y="60897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692000" y="624852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692360" y="31510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3727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403280" y="3943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403280" y="26474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820880" y="3150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635280" y="57430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132000" y="52398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71640" y="47498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484360" y="50245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484360" y="40878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382840" y="40878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676520"/>
            <a:ext cx="7467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54760" y="1371600"/>
            <a:ext cx="22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ROJEKTFORTSCHRI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79880" y="1855800"/>
            <a:ext cx="376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st-Zustands-Beschreibung, Projektauftrag, Grob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82480" y="4664160"/>
            <a:ext cx="29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ehr geringer Anteil am Gesamtaufwa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36080" y="3556080"/>
            <a:ext cx="355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 u="sng">
                <a:solidFill>
                  <a:srgbClr val="000000"/>
                </a:solidFill>
                <a:uFillTx/>
                <a:latin typeface="Arial"/>
              </a:rPr>
              <a:t>Design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: Systemarchitektur, Komponentenstruktu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chnittstellen und Komponentenprototy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1000" y="5218200"/>
            <a:ext cx="13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Produkt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2286000"/>
            <a:ext cx="1752480" cy="685800"/>
          </a:xfrm>
          <a:prstGeom prst="wedgeRoundRectCallout">
            <a:avLst>
              <a:gd name="adj1" fmla="val -146013"/>
              <a:gd name="adj2" fmla="val -15509"/>
              <a:gd name="adj3" fmla="val 16667"/>
            </a:avLst>
          </a:prstGeom>
          <a:solidFill>
            <a:srgbClr val="ff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Definiert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883040"/>
            <a:ext cx="1752480" cy="914400"/>
          </a:xfrm>
          <a:prstGeom prst="wedgeRoundRectCallout">
            <a:avLst>
              <a:gd name="adj1" fmla="val 122824"/>
              <a:gd name="adj2" fmla="val 27259"/>
              <a:gd name="adj3" fmla="val 16667"/>
            </a:avLst>
          </a:prstGeom>
          <a:solidFill>
            <a:srgbClr val="ff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ichert Erfüllung v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rgehensmodel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/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005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Anforderungsdefinition (Spezifik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Zwe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Kontrakt zwischen Auftraggeber und Software-Herstell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Muss von unterschiedlichen Personen verstanden werden können (Auftraggeber, Entwickler, Benutzer usw.) </a:t>
            </a:r>
            <a:r>
              <a:rPr b="0" lang="de-AT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klare und verständliche Sprac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Sie enthäl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Produktanforderung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Beschreibung der Benutzerschnittstel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Festlegung der Bedingungen, unter denen das System laufen soll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(Restriktionen, Voraussetzunge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Zu verwendende Technologie(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Enthält NIC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Architektur- und Designdetai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Implementierungsdetails, Klassen, Klassendiagramme, 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rgehensmodel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7/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224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Anforderungsdefinition (Spezifikation) (Forts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Sie soll folgende Eigenschaften hab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Vollständi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Widerspruchsfre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Für Auftraggeber, Endbenutzer und Auftragnehmer verständli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Probl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Große Anzahl von Anforderun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Systematische Gliederung schwierig (Dokument ist linea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Systemverhalten bei großen Systemen schwer voraussagb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Falsche Vorstellungen des Auftraggeb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Verdana"/>
              </a:rPr>
              <a:t>Wichtig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: Keine Vorwegnahme von Entwurfsentscheidungen !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rgehensmodel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/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005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Umfang und Aufbau einer Spezifik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(1) Ausgangssituation und Zielsetzung</a:t>
            </a:r>
            <a:br>
              <a:rPr sz="2000"/>
            </a:br>
            <a:r>
              <a:rPr b="0" i="1" lang="de-AT" sz="1800" spc="-1" strike="noStrike">
                <a:solidFill>
                  <a:srgbClr val="000000"/>
                </a:solidFill>
                <a:latin typeface="Verdana"/>
              </a:rPr>
              <a:t>Worum geht es? Wie ist der Bezug zur Ist-Analys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Musskriteri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Wunschkriteri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Abgrenzungskriterien (was ist </a:t>
            </a:r>
            <a:r>
              <a:rPr b="0" i="1" lang="de-AT" sz="1800" spc="-1" strike="noStrike">
                <a:solidFill>
                  <a:srgbClr val="000000"/>
                </a:solidFill>
                <a:latin typeface="Verdana"/>
              </a:rPr>
              <a:t>nicht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 das Zie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(2) Systemeinsatz und Systemumgeb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Anwendungsbereic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Zielgruppen (Anzahl der Benutzer, Qualifikation der Benutz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Betriebsbedingungen (wie häufig wird das System benutzt, in welche Hard- und Software soll es eingebettet werd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Use Cases (Anwendungsszenari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rgehensmodel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/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Umfang und Aufbau einer Spezifikation (Forts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(3) Funktionale Anforderungen</a:t>
            </a:r>
            <a:br>
              <a:rPr sz="2000"/>
            </a:br>
            <a:r>
              <a:rPr b="0" i="1" lang="de-AT" sz="1800" spc="-1" strike="noStrike">
                <a:solidFill>
                  <a:srgbClr val="000000"/>
                </a:solidFill>
                <a:latin typeface="Verdana"/>
              </a:rPr>
              <a:t>Beschreibung oder besser </a:t>
            </a:r>
            <a:r>
              <a:rPr b="1" i="1" lang="de-AT" sz="1800" spc="-1" strike="noStrike">
                <a:solidFill>
                  <a:srgbClr val="000000"/>
                </a:solidFill>
                <a:latin typeface="Verdana"/>
              </a:rPr>
              <a:t>Prototypen</a:t>
            </a:r>
            <a:r>
              <a:rPr b="0" i="1" lang="de-AT" sz="1800" spc="-1" strike="noStrike">
                <a:solidFill>
                  <a:srgbClr val="000000"/>
                </a:solidFill>
                <a:latin typeface="Verdana"/>
              </a:rPr>
              <a:t> für die Funktionen aus Benutzersicht (Black Bo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Was soll das System leisten (allgemeine Beschreibung)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Welche Eingabedaten hat jede Funktio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Welche Ausgabedaten produziert si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Welche Funktionen gehören im einzelnen zum System (systemspezifisch, nicht implementierungsspezifisch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(4) Nichtfunktionale Anforder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Qualitätsanforderun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Gewünschte Effizien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Anforderungen an Datensicherheit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rgehensmodel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/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005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Umfang und Aufbau einer Spezifikation (Forts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(5) Benutzerschnittstelle</a:t>
            </a:r>
            <a:br>
              <a:rPr sz="2000"/>
            </a:br>
            <a:r>
              <a:rPr b="0" i="1" lang="de-AT" sz="1800" spc="-1" strike="noStrike">
                <a:solidFill>
                  <a:srgbClr val="000000"/>
                </a:solidFill>
                <a:latin typeface="Verdana"/>
              </a:rPr>
              <a:t>Am besten in Form eines </a:t>
            </a:r>
            <a:r>
              <a:rPr b="1" i="1" lang="de-AT" sz="1800" spc="-1" strike="noStrike">
                <a:solidFill>
                  <a:srgbClr val="000000"/>
                </a:solidFill>
                <a:latin typeface="Verdana"/>
              </a:rPr>
              <a:t>Prototypen</a:t>
            </a:r>
            <a:r>
              <a:rPr b="0" i="1" lang="de-AT" sz="1800" spc="-1" strike="noStrike">
                <a:solidFill>
                  <a:srgbClr val="000000"/>
                </a:solidFill>
                <a:latin typeface="Verdana"/>
              </a:rPr>
              <a:t> und Benutzerhandbuch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Fenster, Bildschirm-Layout, Menüs für alle benutzerwirksamen Systemfunktion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Output-Layouts für alle Ausgabefunktionen des Syste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Beispiele für Anwendungen einzelner Funktion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(6) Fehlerverhal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Spezifikation der erforderlichen Ausnahmebehandlun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Welche Fehler können bei welchen Funktionen auftrete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Wie wirken sich die Fehler au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Wie soll man auf Fehler reagiere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rgehensmodel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/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005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Umfang und Aufbau einer Spezifikation (Forts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(7) Dokumentationsanforder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Wie detailliert soll dokumentiert werde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Für welchen Leserkreis soll dokumentiert werde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Wie soll die Dokumentation aufgebaut sein (elektronisch oder auf Papier oder beides)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Personelle Verantwortung für einzelne Dokumentationste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Wann sollen Aktualisierungen erscheine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(8) Abnahmekriter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Kriterien für funktionale Anforderun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Kriterien für nichtfunktionale Anforderun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Wer führt welche Teile des Abnahmetests durch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Wer liefert Daten für Abnahmetest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rgehensmodel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/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Umfang und Aufbau einer Spezifikation (Forts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(9) Informationsquellen, Ansprechpart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(10) Implementierungsprämissen</a:t>
            </a:r>
            <a:br>
              <a:rPr sz="2000"/>
            </a:br>
            <a:r>
              <a:rPr b="0" i="1" lang="de-AT" sz="1800" spc="-1" strike="noStrike">
                <a:solidFill>
                  <a:srgbClr val="000000"/>
                </a:solidFill>
                <a:latin typeface="Verdana"/>
              </a:rPr>
              <a:t>Vorgaben des Auftraggebers an den Auftragnehm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Einbettung in Laufzeit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Design- und Implementierungsstandards (z.B. Entwurfsmethodik, Implementierungssprache, Testmethodik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Entwicklungssystem und Werkzeu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(11) Projekt-Pl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Organisation der Entwicklungsmannscha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Zeitraster (Prioritäten bei der Implementierung, Meilensteine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(12) Glossar und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Grundlegende Fachbegriff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rgehensmodel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3/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005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Beispiel für ein Fachbereichsmod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0" y="2639880"/>
          <a:ext cx="8839080" cy="36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39880"/>
                    <a:ext cx="8839080" cy="36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695560" y="2492280"/>
            <a:ext cx="331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rgoUML: </a:t>
            </a:r>
            <a:r>
              <a:rPr b="0" lang="de-AT" sz="1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AT" sz="1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argouml</a:t>
            </a:r>
            <a:r>
              <a:rPr b="0" lang="de-AT" sz="1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.</a:t>
            </a:r>
            <a:r>
              <a:rPr b="0" lang="de-AT" sz="1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tigris</a:t>
            </a:r>
            <a:r>
              <a:rPr b="0" lang="de-AT" sz="14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.</a:t>
            </a:r>
            <a:r>
              <a:rPr b="0" lang="de-AT" sz="14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org</a:t>
            </a:r>
            <a:r>
              <a:rPr b="0" lang="de-AT" sz="14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gether: </a:t>
            </a:r>
            <a:r>
              <a:rPr b="0" lang="de-AT" sz="14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http://</a:t>
            </a:r>
            <a:r>
              <a:rPr b="0" lang="de-AT" sz="14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www</a:t>
            </a:r>
            <a:r>
              <a:rPr b="0" lang="de-AT" sz="14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.</a:t>
            </a:r>
            <a:r>
              <a:rPr b="0" lang="de-AT" sz="14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togethersoft</a:t>
            </a:r>
            <a:r>
              <a:rPr b="0" lang="de-AT" sz="1400" spc="-1" strike="noStrike" u="sng">
                <a:solidFill>
                  <a:srgbClr val="003366"/>
                </a:solidFill>
                <a:uFillTx/>
                <a:latin typeface="Arial"/>
                <a:hlinkClick r:id="rId14"/>
              </a:rPr>
              <a:t>.</a:t>
            </a:r>
            <a:r>
              <a:rPr b="0" lang="de-AT" sz="1400" spc="-1" strike="noStrike" u="sng">
                <a:solidFill>
                  <a:srgbClr val="003366"/>
                </a:solidFill>
                <a:uFillTx/>
                <a:latin typeface="Arial"/>
                <a:hlinkClick r:id="rId15"/>
              </a:rPr>
              <a:t>com</a:t>
            </a:r>
            <a:r>
              <a:rPr b="0" lang="de-AT" sz="1400" spc="-1" strike="noStrike" u="sng">
                <a:solidFill>
                  <a:srgbClr val="003366"/>
                </a:solidFill>
                <a:uFillTx/>
                <a:latin typeface="Arial"/>
                <a:hlinkClick r:id="rId16"/>
              </a:rPr>
              <a:t>/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4092480"/>
            <a:ext cx="9144000" cy="936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b2b2b2"/>
                </a:solidFill>
                <a:latin typeface="Verdana"/>
              </a:rPr>
              <a:t>Einleit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b2b2b2"/>
                </a:solidFill>
                <a:latin typeface="Verdana"/>
              </a:rPr>
              <a:t>Problembeschreibung,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b2b2b2"/>
                </a:solidFill>
                <a:latin typeface="Verdana"/>
              </a:rPr>
              <a:t>Vorgehensmod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b2b2b2"/>
                </a:solidFill>
                <a:latin typeface="Verdana"/>
              </a:rPr>
              <a:t>Prototyping, Analyse, Spezifikation,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rojektablau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Meilensteine,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035080"/>
            <a:ext cx="9144000" cy="936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leit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roblembeschreibung,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Vorgehensmod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rototyping, Analyse, Spezifikation,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rojektablau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Meilensteine,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ktablau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005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Verdana"/>
              </a:rPr>
              <a:t>Schritt 1: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 Erstellung eines Prototyp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Optik egal, lediglich die Funktionalität zähl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Verwendung von statisch verlinkten HTML-Sei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Definition von Szenarien incl. Fehlerbehandl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Beschreibung des „Durchspielens“ von Szenarien anhand eines Drehbuchs (Story Boar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Beispiel:</a:t>
            </a:r>
            <a:br>
              <a:rPr sz="2000"/>
            </a:br>
            <a:r>
              <a:rPr b="0" lang="de-AT" sz="1600" spc="-1" strike="noStrike" u="sng">
                <a:solidFill>
                  <a:srgbClr val="000000"/>
                </a:solidFill>
                <a:uFillTx/>
                <a:latin typeface="Verdana"/>
              </a:rPr>
              <a:t>Szenario: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de-AT" sz="1600" spc="-1" strike="noStrike">
                <a:solidFill>
                  <a:srgbClr val="000000"/>
                </a:solidFill>
                <a:latin typeface="Verdana"/>
              </a:rPr>
              <a:t>Benutzer meldet sich mit falschem Passwort an</a:t>
            </a:r>
            <a:br>
              <a:rPr sz="1600"/>
            </a:br>
            <a:r>
              <a:rPr b="0" lang="de-AT" sz="1600" spc="-1" strike="noStrike" u="sng">
                <a:solidFill>
                  <a:srgbClr val="000000"/>
                </a:solidFill>
                <a:uFillTx/>
                <a:latin typeface="Verdana"/>
              </a:rPr>
              <a:t>Drehbuch: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1. Eingabe von Benutzername (+ Screenshot)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2. Eingabe eines falschen Passworts (+ Screenshot)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3. Klick auf Button „Anmelden“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4. Fehlerseite mit Text wird angezeigt (+ Screensho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ktablau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005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Verdana"/>
              </a:rPr>
              <a:t>Schritt 1: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 Erstellung eines Prototypen 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(Forts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Ziel: Simulation des fertigen Produk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Ausgangsbasis für die Implementier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Schwerpunkt ist Benutzerschnittste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Verdana"/>
              </a:rPr>
              <a:t>Schritt 2: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 Spezifik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Verdana"/>
              </a:rPr>
              <a:t>Schritt 3: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 Implementier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Verwendung von JavaServlets, JSP, JDBC (zu verwenden ist die HSQLDB Datenbank !!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Erstellung einer Entwicklungsdokumentation, wird während Programmierung laufend aktualisi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ktablau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005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Verdana"/>
              </a:rPr>
              <a:t>Schritt 3: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 Implementierung 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(Forts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Entwicklungsdok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Enthält Systementwurf (Klassendiagramme, Datenbank-Schema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Systemdokumentation (Java-Doc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Installationsanleit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Benutzerhandbuch, sollte im Prinzip in Spezifikation enthalten se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6247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inleit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50752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Blog für Lehrveranstaltung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Grundfunktionalitä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uperuser und Blogger Benutzersic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Funktionen des Superus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Blogs verwalten, Anzahl der Artik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nktionen des Blogg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Eintrag erstellen und bearbei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trag kommentier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inleit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lattform soll über jeden Web-Browser verwendbar se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asistechnologien: HTML, Java Servlets, Java Server Pages, JDBC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rukturierte Vorgehensweise im Projekt, d.h. Verwendung eines Vorgehensmodells, basierend auf Prototy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aufzeit des Projekts: bis Anfang Mär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048120"/>
            <a:ext cx="9144000" cy="99036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b2b2b2"/>
                </a:solidFill>
                <a:latin typeface="Verdana"/>
              </a:rPr>
              <a:t>Einleit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b2b2b2"/>
                </a:solidFill>
                <a:latin typeface="Verdana"/>
              </a:rPr>
              <a:t>Problembeschreibung,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Vorgehensmod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rototyping, Analyse, Spezifikation,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rojektablau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Meilensteine,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rgehensmodel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/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Klassischer Software-Life-Cycle (SL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3782880" y="2708280"/>
            <a:ext cx="1657440" cy="1440000"/>
          </a:xfrm>
          <a:prstGeom prst="irregularSeal2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ffff"/>
                </a:solidFill>
                <a:latin typeface="Arial"/>
              </a:rPr>
              <a:t>Problem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ffff"/>
                </a:solidFill>
                <a:latin typeface="Arial"/>
              </a:rPr>
              <a:t>stel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73800" y="3427560"/>
            <a:ext cx="1081080" cy="5760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ffff"/>
                </a:solidFill>
                <a:latin typeface="Arial"/>
              </a:rPr>
              <a:t>Problem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ffff"/>
                </a:solidFill>
                <a:latin typeface="Arial"/>
              </a:rPr>
              <a:t>analy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50160" y="4651200"/>
            <a:ext cx="1366920" cy="5763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ffff"/>
                </a:solidFill>
                <a:latin typeface="Arial"/>
              </a:rPr>
              <a:t>Anforderung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9800" y="5443560"/>
            <a:ext cx="1081080" cy="5763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ffff"/>
                </a:solidFill>
                <a:latin typeface="Arial"/>
              </a:rPr>
              <a:t>Entwu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43080" y="5443560"/>
            <a:ext cx="1727280" cy="5763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ffff"/>
                </a:solidFill>
                <a:latin typeface="Arial"/>
              </a:rPr>
              <a:t>Implementier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6160" y="4508640"/>
            <a:ext cx="1081080" cy="5760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9440" y="3284640"/>
            <a:ext cx="1366920" cy="5760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ffff"/>
                </a:solidFill>
                <a:latin typeface="Arial"/>
              </a:rPr>
              <a:t>Betrieb 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ffff"/>
                </a:solidFill>
                <a:latin typeface="Arial"/>
              </a:rPr>
              <a:t>War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64000" y="3184560"/>
            <a:ext cx="959040" cy="531720"/>
            <a:chOff x="5364000" y="3184560"/>
            <a:chExt cx="959040" cy="531720"/>
          </a:xfrm>
        </p:grpSpPr>
        <p:sp>
          <p:nvSpPr>
            <p:cNvPr id="70" name=""/>
            <p:cNvSpPr/>
            <p:nvPr/>
          </p:nvSpPr>
          <p:spPr>
            <a:xfrm>
              <a:off x="5364000" y="3429000"/>
              <a:ext cx="936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77320" y="318456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Projektide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164360" y="4105440"/>
            <a:ext cx="1059480" cy="459000"/>
            <a:chOff x="7164360" y="4105440"/>
            <a:chExt cx="1059480" cy="459000"/>
          </a:xfrm>
        </p:grpSpPr>
        <p:sp>
          <p:nvSpPr>
            <p:cNvPr id="73" name=""/>
            <p:cNvSpPr/>
            <p:nvPr/>
          </p:nvSpPr>
          <p:spPr>
            <a:xfrm>
              <a:off x="7164360" y="4149720"/>
              <a:ext cx="21600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80000" y="4105440"/>
              <a:ext cx="84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Benutzer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wüns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300720" y="5300640"/>
            <a:ext cx="957600" cy="589320"/>
            <a:chOff x="6300720" y="5300640"/>
            <a:chExt cx="957600" cy="589320"/>
          </a:xfrm>
        </p:grpSpPr>
        <p:sp>
          <p:nvSpPr>
            <p:cNvPr id="76" name=""/>
            <p:cNvSpPr/>
            <p:nvPr/>
          </p:nvSpPr>
          <p:spPr>
            <a:xfrm flipH="1">
              <a:off x="6300720" y="5300640"/>
              <a:ext cx="503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18160" y="5430960"/>
              <a:ext cx="740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System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mode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907080" y="5734080"/>
            <a:ext cx="1294920" cy="530280"/>
            <a:chOff x="3907080" y="5734080"/>
            <a:chExt cx="1294920" cy="530280"/>
          </a:xfrm>
        </p:grpSpPr>
        <p:sp>
          <p:nvSpPr>
            <p:cNvPr id="79" name=""/>
            <p:cNvSpPr/>
            <p:nvPr/>
          </p:nvSpPr>
          <p:spPr>
            <a:xfrm flipH="1">
              <a:off x="3924360" y="573408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07080" y="5805360"/>
              <a:ext cx="129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Systemstrukt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und Algorithm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6640" y="5157360"/>
            <a:ext cx="1483920" cy="675360"/>
            <a:chOff x="566640" y="5157360"/>
            <a:chExt cx="1483920" cy="675360"/>
          </a:xfrm>
        </p:grpSpPr>
        <p:sp>
          <p:nvSpPr>
            <p:cNvPr id="82" name=""/>
            <p:cNvSpPr/>
            <p:nvPr/>
          </p:nvSpPr>
          <p:spPr>
            <a:xfrm flipH="1" flipV="1">
              <a:off x="1618920" y="5157360"/>
              <a:ext cx="431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6640" y="5373720"/>
              <a:ext cx="127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Programme u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Dokum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82280" y="3933720"/>
            <a:ext cx="1268640" cy="503280"/>
            <a:chOff x="782280" y="3933720"/>
            <a:chExt cx="1268640" cy="503280"/>
          </a:xfrm>
        </p:grpSpPr>
        <p:sp>
          <p:nvSpPr>
            <p:cNvPr id="85" name=""/>
            <p:cNvSpPr/>
            <p:nvPr/>
          </p:nvSpPr>
          <p:spPr>
            <a:xfrm flipV="1">
              <a:off x="1547640" y="3933720"/>
              <a:ext cx="50328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2280" y="4033800"/>
              <a:ext cx="96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Endproduk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913120" y="2766960"/>
            <a:ext cx="1194120" cy="806040"/>
            <a:chOff x="2913120" y="2766960"/>
            <a:chExt cx="1194120" cy="806040"/>
          </a:xfrm>
        </p:grpSpPr>
        <p:sp>
          <p:nvSpPr>
            <p:cNvPr id="88" name=""/>
            <p:cNvSpPr/>
            <p:nvPr/>
          </p:nvSpPr>
          <p:spPr>
            <a:xfrm flipV="1">
              <a:off x="2987640" y="3428640"/>
              <a:ext cx="792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13120" y="2766960"/>
              <a:ext cx="1194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Ne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Anforderung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7006320" y="610704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000000"/>
                </a:solidFill>
                <a:latin typeface="Arial"/>
              </a:rPr>
              <a:t>Quelle: Pomberger, 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rgehensmodel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/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orte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Klarer Rahmen, präzise Abgrenzung zwischen Pha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Unabhängig vom Anwendungsgebiet und von der Projektgröß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Strukturierter Entwicklungsprozess fördert Strukturiertheit des Produk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Ermöglicht arbeitsteiligen Entwicklungsproz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Verdana"/>
              </a:rPr>
              <a:t>Nachte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Linearisierung ist unrealistische Idealisier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Vollständigkeit der Phasenergebnisse selten erreichb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Präzise Phasentrennung steht im Widerspruch zur Realitä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Fehler werden spät erkannt </a:t>
            </a:r>
            <a:r>
              <a:rPr b="0" lang="de-A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 hoher Änderungsaufw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7006320" y="610704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000000"/>
                </a:solidFill>
                <a:latin typeface="Arial"/>
              </a:rPr>
              <a:t>Quelle: Pomberger, 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rgehensmodel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/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SLC mit Rückkopplungen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Verdana"/>
              </a:rPr>
              <a:t>Prototypingorientierte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 Entwicklungsmethodi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Idee: möglichst schnell ein lauffähiges Modell haben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das das gewünschte System simuli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mit dem man experimentieren kan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mit dem der Auftraggeber prüfen kann, ob er richtig verstanden wur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Zw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Missverständnisse möglichst früh erken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Spezifikation möglichst früh vervollständi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Verschiedene Lösungsansätze ausprobi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7006320" y="610704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000000"/>
                </a:solidFill>
                <a:latin typeface="Arial"/>
              </a:rPr>
              <a:t>Quelle: Pomberger, 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mierprojekt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rgehensmodel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/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5914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Arten von Prototy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Exploratives Prototy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Funktionserforschung führt zur </a:t>
            </a:r>
            <a:r>
              <a:rPr b="0" i="1" lang="de-AT" sz="2000" spc="-1" strike="noStrike">
                <a:solidFill>
                  <a:srgbClr val="000000"/>
                </a:solidFill>
                <a:latin typeface="Verdana"/>
              </a:rPr>
              <a:t>Spezifik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Experimentelles Prototy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Simulation der Benutzerschnittstelle, der Systemfunktionen und der Systemarchitekt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Führt zur </a:t>
            </a:r>
            <a:r>
              <a:rPr b="0" i="1" lang="de-AT" sz="2000" spc="-1" strike="noStrike">
                <a:solidFill>
                  <a:srgbClr val="000000"/>
                </a:solidFill>
                <a:latin typeface="Verdana"/>
              </a:rPr>
              <a:t>Spezifikation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 und </a:t>
            </a:r>
            <a:r>
              <a:rPr b="0" i="1" lang="de-AT" sz="2000" spc="-1" strike="noStrike">
                <a:solidFill>
                  <a:srgbClr val="000000"/>
                </a:solidFill>
                <a:latin typeface="Verdana"/>
              </a:rPr>
              <a:t>Systemarchitekt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Evolutionäres Prototy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Beginnt mit einer Teilmenge der Funkti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Schrittweise Hinzunahme neuer Funkti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7006320" y="610704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000000"/>
                </a:solidFill>
                <a:latin typeface="Arial"/>
              </a:rPr>
              <a:t>Quelle: Pomberger, 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13:17:21Z</dcterms:created>
  <dc:creator>IFS</dc:creator>
  <dc:description/>
  <dc:language>en-US</dc:language>
  <cp:lastModifiedBy>Tiscover</cp:lastModifiedBy>
  <dcterms:modified xsi:type="dcterms:W3CDTF">2006-11-03T07:52:01Z</dcterms:modified>
  <cp:revision>129</cp:revision>
  <dc:subject/>
  <dc:title>Basel II</dc:title>
</cp:coreProperties>
</file>